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56F-99C9-4FDA-8510-BB94AE9A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AE7-9B49-4561-8FF8-9F057DEB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FD40-86F2-41AB-8ECD-7F8E0CAD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617-6837-4E33-AAB7-3F3B1906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A6DD-D063-44C1-909D-A537D516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4876-C280-414B-B805-87A525FD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9E45-EAF6-4B08-98E3-0D02B8F8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AA79-714D-4AC1-8B9D-C7FD8791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0ADA-814F-4EB5-B93D-E7CC4C52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97CF-F775-4EC4-8E81-067CAFE8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39E2-F2A0-46D7-9A77-7592F61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DFE-8311-4C1C-8948-EBE4F418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5140-62FA-42A5-94A3-C843C47E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A944-9C06-447C-B0A4-239BF23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1402-B79B-41D0-8C7A-41372333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FA02-D19C-48E4-BF84-8013632E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2790-F657-438A-AB0F-A8ED344D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C04-1A89-4554-BC21-3E4059FB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89F-0DBD-40BF-89FA-DF37FE67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A0F-FA2C-4D3E-A331-1F2DA614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4AE-15C6-4F92-A820-4B2FB1D2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BDC-9EF0-42EF-B7D4-F047A51E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765-6013-46CE-AC9A-EFCD88B7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616-ABD1-4078-9020-F46108C5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F8B5-C5A8-4FB2-91ED-E805E0B8C8E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F95A-71B2-46CF-948C-54B925744ED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有一个石头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96" name="Content Placeholder 3" descr="rock.jpg"/>
          <p:cNvPicPr/>
          <p:nvPr/>
        </p:nvPicPr>
        <p:blipFill>
          <a:blip r:embed="rId1"/>
          <a:stretch/>
        </p:blipFill>
        <p:spPr>
          <a:xfrm>
            <a:off x="990720" y="1981080"/>
            <a:ext cx="7365960" cy="441972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-76212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Ink 4"/>
          <p:cNvSpPr/>
          <p:nvPr/>
        </p:nvSpPr>
        <p:spPr>
          <a:xfrm>
            <a:off x="3008160" y="3171960"/>
            <a:ext cx="738360" cy="438120"/>
          </a:xfrm>
          <a:custGeom>
            <a:avLst/>
            <a:gdLst/>
            <a:ahLst/>
            <a:rect l="l" t="t" r="r" b="b"/>
            <a:pathLst>
              <a:path w="2049" h="1215">
                <a:moveTo>
                  <a:pt x="9192" y="9835"/>
                </a:moveTo>
                <a:cubicBezTo>
                  <a:pt x="9192" y="9882"/>
                  <a:pt x="9203" y="9892"/>
                  <a:pt x="9215" y="9930"/>
                </a:cubicBezTo>
                <a:cubicBezTo>
                  <a:pt x="9224" y="9959"/>
                  <a:pt x="9217" y="9990"/>
                  <a:pt x="9239" y="10001"/>
                </a:cubicBezTo>
                <a:cubicBezTo>
                  <a:pt x="9270" y="10017"/>
                  <a:pt x="9263" y="10025"/>
                  <a:pt x="9311" y="10025"/>
                </a:cubicBezTo>
                <a:cubicBezTo>
                  <a:pt x="9374" y="10025"/>
                  <a:pt x="9438" y="10025"/>
                  <a:pt x="9501" y="10025"/>
                </a:cubicBezTo>
                <a:cubicBezTo>
                  <a:pt x="9501" y="9976"/>
                  <a:pt x="9512" y="9969"/>
                  <a:pt x="9525" y="9930"/>
                </a:cubicBezTo>
                <a:cubicBezTo>
                  <a:pt x="9543" y="9877"/>
                  <a:pt x="9511" y="9830"/>
                  <a:pt x="9501" y="9811"/>
                </a:cubicBezTo>
                <a:cubicBezTo>
                  <a:pt x="9490" y="9788"/>
                  <a:pt x="9461" y="9777"/>
                  <a:pt x="9454" y="9763"/>
                </a:cubicBezTo>
                <a:cubicBezTo>
                  <a:pt x="9442" y="9738"/>
                  <a:pt x="9414" y="9732"/>
                  <a:pt x="9406" y="9716"/>
                </a:cubicBezTo>
                <a:cubicBezTo>
                  <a:pt x="9393" y="9691"/>
                  <a:pt x="9391" y="9672"/>
                  <a:pt x="9358" y="9668"/>
                </a:cubicBezTo>
                <a:cubicBezTo>
                  <a:pt x="9299" y="9660"/>
                  <a:pt x="9262" y="9676"/>
                  <a:pt x="9215" y="9692"/>
                </a:cubicBezTo>
                <a:cubicBezTo>
                  <a:pt x="9190" y="9700"/>
                  <a:pt x="9172" y="9710"/>
                  <a:pt x="9168" y="9739"/>
                </a:cubicBezTo>
                <a:cubicBezTo>
                  <a:pt x="9163" y="9778"/>
                  <a:pt x="9144" y="9757"/>
                  <a:pt x="9144" y="9811"/>
                </a:cubicBezTo>
                <a:cubicBezTo>
                  <a:pt x="9144" y="9859"/>
                  <a:pt x="9144" y="9906"/>
                  <a:pt x="9144" y="9954"/>
                </a:cubicBezTo>
                <a:cubicBezTo>
                  <a:pt x="9184" y="9954"/>
                  <a:pt x="9223" y="9954"/>
                  <a:pt x="9263" y="9954"/>
                </a:cubicBezTo>
              </a:path>
              <a:path w="2049" h="1215">
                <a:moveTo>
                  <a:pt x="8358" y="8906"/>
                </a:moveTo>
                <a:cubicBezTo>
                  <a:pt x="8371" y="8896"/>
                  <a:pt x="8403" y="8866"/>
                  <a:pt x="8430" y="8858"/>
                </a:cubicBezTo>
                <a:cubicBezTo>
                  <a:pt x="8477" y="8844"/>
                  <a:pt x="8495" y="8840"/>
                  <a:pt x="8525" y="8834"/>
                </a:cubicBezTo>
                <a:cubicBezTo>
                  <a:pt x="8571" y="8825"/>
                  <a:pt x="8562" y="8818"/>
                  <a:pt x="8596" y="8811"/>
                </a:cubicBezTo>
                <a:cubicBezTo>
                  <a:pt x="8949" y="8743"/>
                  <a:pt x="9464" y="8786"/>
                  <a:pt x="9811" y="8834"/>
                </a:cubicBezTo>
                <a:cubicBezTo>
                  <a:pt x="9869" y="8842"/>
                  <a:pt x="9920" y="8848"/>
                  <a:pt x="9977" y="8858"/>
                </a:cubicBezTo>
                <a:cubicBezTo>
                  <a:pt x="10040" y="8870"/>
                  <a:pt x="10110" y="8883"/>
                  <a:pt x="10168" y="8906"/>
                </a:cubicBezTo>
                <a:cubicBezTo>
                  <a:pt x="10223" y="8927"/>
                  <a:pt x="10299" y="8946"/>
                  <a:pt x="10358" y="8954"/>
                </a:cubicBezTo>
                <a:cubicBezTo>
                  <a:pt x="10382" y="8954"/>
                  <a:pt x="10390" y="8954"/>
                  <a:pt x="10406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5"/>
          <p:cNvSpPr/>
          <p:nvPr/>
        </p:nvSpPr>
        <p:spPr>
          <a:xfrm>
            <a:off x="4343400" y="3200400"/>
            <a:ext cx="582480" cy="428760"/>
          </a:xfrm>
          <a:custGeom>
            <a:avLst/>
            <a:gdLst/>
            <a:ahLst/>
            <a:rect l="l" t="t" r="r" b="b"/>
            <a:pathLst>
              <a:path w="1620" h="1192">
                <a:moveTo>
                  <a:pt x="12692" y="9954"/>
                </a:moveTo>
                <a:cubicBezTo>
                  <a:pt x="12629" y="9954"/>
                  <a:pt x="12581" y="9962"/>
                  <a:pt x="12549" y="9977"/>
                </a:cubicBezTo>
                <a:cubicBezTo>
                  <a:pt x="12515" y="9993"/>
                  <a:pt x="12525" y="10003"/>
                  <a:pt x="12525" y="10049"/>
                </a:cubicBezTo>
                <a:cubicBezTo>
                  <a:pt x="12525" y="10130"/>
                  <a:pt x="12525" y="10216"/>
                  <a:pt x="12549" y="10263"/>
                </a:cubicBezTo>
                <a:cubicBezTo>
                  <a:pt x="12563" y="10290"/>
                  <a:pt x="12549" y="10323"/>
                  <a:pt x="12573" y="10335"/>
                </a:cubicBezTo>
                <a:cubicBezTo>
                  <a:pt x="12603" y="10350"/>
                  <a:pt x="12659" y="10378"/>
                  <a:pt x="12692" y="10382"/>
                </a:cubicBezTo>
                <a:cubicBezTo>
                  <a:pt x="12732" y="10386"/>
                  <a:pt x="12751" y="10402"/>
                  <a:pt x="12787" y="10406"/>
                </a:cubicBezTo>
                <a:cubicBezTo>
                  <a:pt x="12827" y="10411"/>
                  <a:pt x="12852" y="10423"/>
                  <a:pt x="12883" y="10430"/>
                </a:cubicBezTo>
                <a:cubicBezTo>
                  <a:pt x="12945" y="10443"/>
                  <a:pt x="12954" y="10418"/>
                  <a:pt x="12978" y="10406"/>
                </a:cubicBezTo>
                <a:cubicBezTo>
                  <a:pt x="13000" y="10395"/>
                  <a:pt x="13022" y="10360"/>
                  <a:pt x="13025" y="10335"/>
                </a:cubicBezTo>
                <a:cubicBezTo>
                  <a:pt x="13031" y="10287"/>
                  <a:pt x="13010" y="10281"/>
                  <a:pt x="13002" y="10263"/>
                </a:cubicBezTo>
                <a:cubicBezTo>
                  <a:pt x="12991" y="10240"/>
                  <a:pt x="12982" y="10199"/>
                  <a:pt x="12978" y="10192"/>
                </a:cubicBezTo>
                <a:cubicBezTo>
                  <a:pt x="12964" y="10164"/>
                  <a:pt x="12960" y="10153"/>
                  <a:pt x="12930" y="10120"/>
                </a:cubicBezTo>
                <a:cubicBezTo>
                  <a:pt x="12914" y="10103"/>
                  <a:pt x="12889" y="10054"/>
                  <a:pt x="12883" y="10049"/>
                </a:cubicBezTo>
                <a:cubicBezTo>
                  <a:pt x="12873" y="10041"/>
                  <a:pt x="12818" y="10026"/>
                  <a:pt x="12811" y="10025"/>
                </a:cubicBezTo>
                <a:cubicBezTo>
                  <a:pt x="12762" y="10019"/>
                  <a:pt x="12777" y="10006"/>
                  <a:pt x="12740" y="10001"/>
                </a:cubicBezTo>
                <a:cubicBezTo>
                  <a:pt x="12732" y="10001"/>
                  <a:pt x="12724" y="10001"/>
                  <a:pt x="12716" y="10001"/>
                </a:cubicBezTo>
              </a:path>
              <a:path w="1620" h="1192">
                <a:moveTo>
                  <a:pt x="12073" y="9406"/>
                </a:moveTo>
                <a:cubicBezTo>
                  <a:pt x="12073" y="9382"/>
                  <a:pt x="12073" y="9374"/>
                  <a:pt x="12073" y="9358"/>
                </a:cubicBezTo>
                <a:cubicBezTo>
                  <a:pt x="12088" y="9344"/>
                  <a:pt x="12122" y="9328"/>
                  <a:pt x="12144" y="9311"/>
                </a:cubicBezTo>
                <a:cubicBezTo>
                  <a:pt x="12185" y="9280"/>
                  <a:pt x="12200" y="9306"/>
                  <a:pt x="12240" y="9287"/>
                </a:cubicBezTo>
                <a:cubicBezTo>
                  <a:pt x="12298" y="9260"/>
                  <a:pt x="12304" y="9263"/>
                  <a:pt x="12383" y="9263"/>
                </a:cubicBezTo>
                <a:cubicBezTo>
                  <a:pt x="12447" y="9263"/>
                  <a:pt x="12466" y="9243"/>
                  <a:pt x="12525" y="9239"/>
                </a:cubicBezTo>
                <a:cubicBezTo>
                  <a:pt x="12832" y="9221"/>
                  <a:pt x="13181" y="9213"/>
                  <a:pt x="13478" y="9263"/>
                </a:cubicBezTo>
                <a:cubicBezTo>
                  <a:pt x="13528" y="9271"/>
                  <a:pt x="13580" y="9279"/>
                  <a:pt x="13621" y="9287"/>
                </a:cubicBezTo>
                <a:cubicBezTo>
                  <a:pt x="13644" y="9292"/>
                  <a:pt x="13669" y="9284"/>
                  <a:pt x="13692" y="9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6"/>
          <p:cNvSpPr/>
          <p:nvPr/>
        </p:nvSpPr>
        <p:spPr>
          <a:xfrm>
            <a:off x="3780000" y="4071960"/>
            <a:ext cx="223560" cy="471600"/>
          </a:xfrm>
          <a:custGeom>
            <a:avLst/>
            <a:gdLst/>
            <a:ahLst/>
            <a:rect l="l" t="t" r="r" b="b"/>
            <a:pathLst>
              <a:path w="620" h="1311">
                <a:moveTo>
                  <a:pt x="10739" y="11311"/>
                </a:moveTo>
                <a:cubicBezTo>
                  <a:pt x="10732" y="11359"/>
                  <a:pt x="10723" y="11347"/>
                  <a:pt x="10716" y="11382"/>
                </a:cubicBezTo>
                <a:cubicBezTo>
                  <a:pt x="10704" y="11442"/>
                  <a:pt x="10700" y="11514"/>
                  <a:pt x="10692" y="11573"/>
                </a:cubicBezTo>
                <a:cubicBezTo>
                  <a:pt x="10686" y="11613"/>
                  <a:pt x="10673" y="11632"/>
                  <a:pt x="10668" y="11668"/>
                </a:cubicBezTo>
                <a:cubicBezTo>
                  <a:pt x="10662" y="11717"/>
                  <a:pt x="10659" y="11745"/>
                  <a:pt x="10644" y="11787"/>
                </a:cubicBezTo>
                <a:cubicBezTo>
                  <a:pt x="10628" y="11833"/>
                  <a:pt x="10605" y="11912"/>
                  <a:pt x="10597" y="11954"/>
                </a:cubicBezTo>
                <a:cubicBezTo>
                  <a:pt x="10585" y="12019"/>
                  <a:pt x="10597" y="12085"/>
                  <a:pt x="10573" y="12144"/>
                </a:cubicBezTo>
                <a:cubicBezTo>
                  <a:pt x="10559" y="12178"/>
                  <a:pt x="10530" y="12221"/>
                  <a:pt x="10525" y="12263"/>
                </a:cubicBezTo>
                <a:cubicBezTo>
                  <a:pt x="10519" y="12312"/>
                  <a:pt x="10511" y="12341"/>
                  <a:pt x="10501" y="12383"/>
                </a:cubicBezTo>
                <a:cubicBezTo>
                  <a:pt x="10501" y="12391"/>
                  <a:pt x="10501" y="12398"/>
                  <a:pt x="10501" y="12406"/>
                </a:cubicBezTo>
                <a:cubicBezTo>
                  <a:pt x="10555" y="12413"/>
                  <a:pt x="10593" y="12445"/>
                  <a:pt x="10644" y="12454"/>
                </a:cubicBezTo>
                <a:cubicBezTo>
                  <a:pt x="10751" y="12473"/>
                  <a:pt x="10861" y="12508"/>
                  <a:pt x="10954" y="12573"/>
                </a:cubicBezTo>
                <a:cubicBezTo>
                  <a:pt x="11004" y="12608"/>
                  <a:pt x="11017" y="12575"/>
                  <a:pt x="11073" y="12597"/>
                </a:cubicBezTo>
                <a:cubicBezTo>
                  <a:pt x="11094" y="12618"/>
                  <a:pt x="11099" y="12626"/>
                  <a:pt x="11120" y="12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aruchan took Bob Places.</a:t>
            </a: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Maruchan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带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bob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去玩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4" name="Content Placeholder 3" descr="walk.jpg"/>
          <p:cNvPicPr/>
          <p:nvPr/>
        </p:nvPicPr>
        <p:blipFill>
          <a:blip r:embed="rId1"/>
          <a:stretch/>
        </p:blipFill>
        <p:spPr>
          <a:xfrm>
            <a:off x="2133720" y="2209680"/>
            <a:ext cx="3238560" cy="3854520"/>
          </a:xfrm>
          <a:prstGeom prst="rect">
            <a:avLst/>
          </a:prstGeom>
          <a:ln w="0">
            <a:noFill/>
          </a:ln>
        </p:spPr>
      </p:pic>
      <p:sp>
        <p:nvSpPr>
          <p:cNvPr id="155" name="Cloud 3"/>
          <p:cNvSpPr/>
          <p:nvPr/>
        </p:nvSpPr>
        <p:spPr>
          <a:xfrm>
            <a:off x="5943600" y="2133720"/>
            <a:ext cx="1905120" cy="7617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Recorded Sound" descr=""/>
          <p:cNvPicPr/>
          <p:nvPr/>
        </p:nvPicPr>
        <p:blipFill>
          <a:blip r:embed="rId2"/>
          <a:stretch/>
        </p:blipFill>
        <p:spPr>
          <a:xfrm>
            <a:off x="-106668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Ink 2"/>
          <p:cNvSpPr/>
          <p:nvPr/>
        </p:nvSpPr>
        <p:spPr>
          <a:xfrm>
            <a:off x="4456080" y="2884320"/>
            <a:ext cx="473040" cy="17640"/>
          </a:xfrm>
          <a:custGeom>
            <a:avLst/>
            <a:gdLst/>
            <a:ahLst/>
            <a:rect l="l" t="t" r="r" b="b"/>
            <a:pathLst>
              <a:path w="1315" h="51">
                <a:moveTo>
                  <a:pt x="13345" y="8062"/>
                </a:moveTo>
                <a:cubicBezTo>
                  <a:pt x="13461" y="8062"/>
                  <a:pt x="13576" y="8062"/>
                  <a:pt x="13692" y="8062"/>
                </a:cubicBezTo>
              </a:path>
              <a:path w="1315" h="51">
                <a:moveTo>
                  <a:pt x="12378" y="8037"/>
                </a:moveTo>
                <a:cubicBezTo>
                  <a:pt x="12378" y="8029"/>
                  <a:pt x="12378" y="8020"/>
                  <a:pt x="12378" y="8012"/>
                </a:cubicBezTo>
                <a:cubicBezTo>
                  <a:pt x="12485" y="8012"/>
                  <a:pt x="12593" y="8012"/>
                  <a:pt x="12700" y="8012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Ink 9"/>
          <p:cNvSpPr/>
          <p:nvPr/>
        </p:nvSpPr>
        <p:spPr>
          <a:xfrm>
            <a:off x="-452520" y="5975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-1262" y="16597"/>
                </a:moveTo>
                <a:lnTo>
                  <a:pt x="-1262" y="1659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Ink 11"/>
          <p:cNvSpPr/>
          <p:nvPr/>
        </p:nvSpPr>
        <p:spPr>
          <a:xfrm>
            <a:off x="4664160" y="241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954" y="6715"/>
                </a:moveTo>
                <a:lnTo>
                  <a:pt x="12954" y="6715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Ink 12"/>
          <p:cNvSpPr/>
          <p:nvPr/>
        </p:nvSpPr>
        <p:spPr>
          <a:xfrm>
            <a:off x="4664160" y="2451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954" y="6810"/>
                </a:moveTo>
                <a:lnTo>
                  <a:pt x="12954" y="68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Ink 13"/>
          <p:cNvSpPr/>
          <p:nvPr/>
        </p:nvSpPr>
        <p:spPr>
          <a:xfrm>
            <a:off x="4680000" y="2451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002" y="6810"/>
                </a:moveTo>
                <a:lnTo>
                  <a:pt x="13002" y="68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Ink 14"/>
          <p:cNvSpPr/>
          <p:nvPr/>
        </p:nvSpPr>
        <p:spPr>
          <a:xfrm>
            <a:off x="4646520" y="24512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906" y="6810"/>
                </a:moveTo>
                <a:lnTo>
                  <a:pt x="12906" y="68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Ink 15"/>
          <p:cNvSpPr/>
          <p:nvPr/>
        </p:nvSpPr>
        <p:spPr>
          <a:xfrm>
            <a:off x="4560840" y="2425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68" y="6739"/>
                </a:moveTo>
                <a:lnTo>
                  <a:pt x="12668" y="673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nk 16"/>
          <p:cNvSpPr/>
          <p:nvPr/>
        </p:nvSpPr>
        <p:spPr>
          <a:xfrm>
            <a:off x="453564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597" y="6858"/>
                </a:moveTo>
                <a:lnTo>
                  <a:pt x="12597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Ink 17"/>
          <p:cNvSpPr/>
          <p:nvPr/>
        </p:nvSpPr>
        <p:spPr>
          <a:xfrm>
            <a:off x="454356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621" y="6858"/>
                </a:moveTo>
                <a:lnTo>
                  <a:pt x="12621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18"/>
          <p:cNvSpPr/>
          <p:nvPr/>
        </p:nvSpPr>
        <p:spPr>
          <a:xfrm>
            <a:off x="455148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644" y="6858"/>
                </a:moveTo>
                <a:lnTo>
                  <a:pt x="12644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Ink 19"/>
          <p:cNvSpPr/>
          <p:nvPr/>
        </p:nvSpPr>
        <p:spPr>
          <a:xfrm>
            <a:off x="457848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716" y="6858"/>
                </a:moveTo>
                <a:lnTo>
                  <a:pt x="12716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Ink 20"/>
          <p:cNvSpPr/>
          <p:nvPr/>
        </p:nvSpPr>
        <p:spPr>
          <a:xfrm>
            <a:off x="4586400" y="2468520"/>
            <a:ext cx="34920" cy="42840"/>
          </a:xfrm>
          <a:custGeom>
            <a:avLst/>
            <a:gdLst/>
            <a:ahLst/>
            <a:rect l="l" t="t" r="r" b="b"/>
            <a:pathLst>
              <a:path w="96" h="120">
                <a:moveTo>
                  <a:pt x="12811" y="6858"/>
                </a:moveTo>
                <a:cubicBezTo>
                  <a:pt x="12811" y="6866"/>
                  <a:pt x="12811" y="6874"/>
                  <a:pt x="12811" y="6882"/>
                </a:cubicBezTo>
                <a:cubicBezTo>
                  <a:pt x="12847" y="6894"/>
                  <a:pt x="12835" y="6910"/>
                  <a:pt x="12835" y="6953"/>
                </a:cubicBezTo>
                <a:cubicBezTo>
                  <a:pt x="12835" y="6961"/>
                  <a:pt x="12835" y="6969"/>
                  <a:pt x="12835" y="6977"/>
                </a:cubicBezTo>
                <a:cubicBezTo>
                  <a:pt x="12803" y="6977"/>
                  <a:pt x="12772" y="6977"/>
                  <a:pt x="12740" y="69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Ink 21"/>
          <p:cNvSpPr/>
          <p:nvPr/>
        </p:nvSpPr>
        <p:spPr>
          <a:xfrm>
            <a:off x="4543560" y="2571840"/>
            <a:ext cx="153720" cy="60120"/>
          </a:xfrm>
          <a:custGeom>
            <a:avLst/>
            <a:gdLst/>
            <a:ahLst/>
            <a:rect l="l" t="t" r="r" b="b"/>
            <a:pathLst>
              <a:path w="429" h="167">
                <a:moveTo>
                  <a:pt x="12644" y="7168"/>
                </a:moveTo>
                <a:cubicBezTo>
                  <a:pt x="12633" y="7134"/>
                  <a:pt x="12632" y="7134"/>
                  <a:pt x="12621" y="7168"/>
                </a:cubicBezTo>
                <a:cubicBezTo>
                  <a:pt x="12695" y="7168"/>
                  <a:pt x="12769" y="7171"/>
                  <a:pt x="12811" y="7191"/>
                </a:cubicBezTo>
                <a:cubicBezTo>
                  <a:pt x="12869" y="7219"/>
                  <a:pt x="12999" y="7180"/>
                  <a:pt x="13025" y="7168"/>
                </a:cubicBezTo>
                <a:cubicBezTo>
                  <a:pt x="13049" y="7168"/>
                  <a:pt x="13057" y="7168"/>
                  <a:pt x="13049" y="7191"/>
                </a:cubicBezTo>
                <a:cubicBezTo>
                  <a:pt x="13042" y="7212"/>
                  <a:pt x="13009" y="7229"/>
                  <a:pt x="12978" y="7239"/>
                </a:cubicBezTo>
                <a:cubicBezTo>
                  <a:pt x="12933" y="7254"/>
                  <a:pt x="12877" y="7249"/>
                  <a:pt x="12835" y="7263"/>
                </a:cubicBezTo>
                <a:cubicBezTo>
                  <a:pt x="12799" y="7275"/>
                  <a:pt x="12815" y="7287"/>
                  <a:pt x="12764" y="7287"/>
                </a:cubicBezTo>
                <a:cubicBezTo>
                  <a:pt x="12714" y="7287"/>
                  <a:pt x="12716" y="7289"/>
                  <a:pt x="12716" y="7239"/>
                </a:cubicBezTo>
                <a:cubicBezTo>
                  <a:pt x="12716" y="7215"/>
                  <a:pt x="12716" y="7207"/>
                  <a:pt x="12716" y="7191"/>
                </a:cubicBezTo>
                <a:cubicBezTo>
                  <a:pt x="12716" y="7126"/>
                  <a:pt x="12719" y="7233"/>
                  <a:pt x="12716" y="7239"/>
                </a:cubicBezTo>
                <a:cubicBezTo>
                  <a:pt x="12694" y="7279"/>
                  <a:pt x="12679" y="7278"/>
                  <a:pt x="12668" y="7310"/>
                </a:cubicBezTo>
                <a:cubicBezTo>
                  <a:pt x="12668" y="7270"/>
                  <a:pt x="12651" y="7220"/>
                  <a:pt x="12692" y="7215"/>
                </a:cubicBezTo>
                <a:cubicBezTo>
                  <a:pt x="12761" y="7206"/>
                  <a:pt x="12837" y="7215"/>
                  <a:pt x="12906" y="72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22"/>
          <p:cNvSpPr/>
          <p:nvPr/>
        </p:nvSpPr>
        <p:spPr>
          <a:xfrm>
            <a:off x="4714920" y="2494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097" y="6929"/>
                </a:moveTo>
                <a:lnTo>
                  <a:pt x="13097" y="692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Ink 23"/>
          <p:cNvSpPr/>
          <p:nvPr/>
        </p:nvSpPr>
        <p:spPr>
          <a:xfrm>
            <a:off x="4714920" y="2478240"/>
            <a:ext cx="1440" cy="17280"/>
          </a:xfrm>
          <a:custGeom>
            <a:avLst/>
            <a:gdLst/>
            <a:ahLst/>
            <a:rect l="l" t="t" r="r" b="b"/>
            <a:pathLst>
              <a:path w="1" h="48">
                <a:moveTo>
                  <a:pt x="13097" y="6929"/>
                </a:moveTo>
                <a:cubicBezTo>
                  <a:pt x="13097" y="6906"/>
                  <a:pt x="13097" y="6898"/>
                  <a:pt x="13097" y="68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Ink 24"/>
          <p:cNvSpPr/>
          <p:nvPr/>
        </p:nvSpPr>
        <p:spPr>
          <a:xfrm>
            <a:off x="4697280" y="24685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049" y="6858"/>
                </a:moveTo>
                <a:lnTo>
                  <a:pt x="13049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Ink 25"/>
          <p:cNvSpPr/>
          <p:nvPr/>
        </p:nvSpPr>
        <p:spPr>
          <a:xfrm>
            <a:off x="4714920" y="2511360"/>
            <a:ext cx="936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13097" y="6977"/>
                </a:moveTo>
                <a:cubicBezTo>
                  <a:pt x="13105" y="6977"/>
                  <a:pt x="13113" y="6977"/>
                  <a:pt x="13121" y="69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Ink 26"/>
          <p:cNvSpPr/>
          <p:nvPr/>
        </p:nvSpPr>
        <p:spPr>
          <a:xfrm>
            <a:off x="4611600" y="26226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811" y="7287"/>
                </a:moveTo>
                <a:lnTo>
                  <a:pt x="12811" y="728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Ink 27"/>
          <p:cNvSpPr/>
          <p:nvPr/>
        </p:nvSpPr>
        <p:spPr>
          <a:xfrm>
            <a:off x="4595760" y="26226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764" y="7287"/>
                </a:moveTo>
                <a:lnTo>
                  <a:pt x="12764" y="728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Ink 28"/>
          <p:cNvSpPr/>
          <p:nvPr/>
        </p:nvSpPr>
        <p:spPr>
          <a:xfrm>
            <a:off x="4483080" y="2382840"/>
            <a:ext cx="266760" cy="214200"/>
          </a:xfrm>
          <a:custGeom>
            <a:avLst/>
            <a:gdLst/>
            <a:ahLst/>
            <a:rect l="l" t="t" r="r" b="b"/>
            <a:pathLst>
              <a:path w="739" h="596">
                <a:moveTo>
                  <a:pt x="12835" y="6739"/>
                </a:moveTo>
                <a:cubicBezTo>
                  <a:pt x="12803" y="6739"/>
                  <a:pt x="12772" y="6739"/>
                  <a:pt x="12740" y="6739"/>
                </a:cubicBezTo>
                <a:cubicBezTo>
                  <a:pt x="12740" y="6801"/>
                  <a:pt x="12717" y="7090"/>
                  <a:pt x="12764" y="7096"/>
                </a:cubicBezTo>
                <a:cubicBezTo>
                  <a:pt x="12813" y="7102"/>
                  <a:pt x="12799" y="7115"/>
                  <a:pt x="12835" y="7120"/>
                </a:cubicBezTo>
                <a:cubicBezTo>
                  <a:pt x="12950" y="7134"/>
                  <a:pt x="13076" y="7120"/>
                  <a:pt x="13192" y="7120"/>
                </a:cubicBezTo>
                <a:cubicBezTo>
                  <a:pt x="13192" y="7087"/>
                  <a:pt x="13204" y="7043"/>
                  <a:pt x="13168" y="7025"/>
                </a:cubicBezTo>
                <a:cubicBezTo>
                  <a:pt x="13125" y="7003"/>
                  <a:pt x="13121" y="7043"/>
                  <a:pt x="13121" y="6977"/>
                </a:cubicBezTo>
                <a:cubicBezTo>
                  <a:pt x="13121" y="6937"/>
                  <a:pt x="13084" y="6950"/>
                  <a:pt x="13073" y="6929"/>
                </a:cubicBezTo>
                <a:cubicBezTo>
                  <a:pt x="13059" y="6903"/>
                  <a:pt x="13072" y="6870"/>
                  <a:pt x="13049" y="6858"/>
                </a:cubicBezTo>
                <a:cubicBezTo>
                  <a:pt x="13014" y="6840"/>
                  <a:pt x="12993" y="6847"/>
                  <a:pt x="12978" y="6810"/>
                </a:cubicBezTo>
                <a:cubicBezTo>
                  <a:pt x="12964" y="6776"/>
                  <a:pt x="12933" y="6736"/>
                  <a:pt x="12930" y="6715"/>
                </a:cubicBezTo>
                <a:cubicBezTo>
                  <a:pt x="12928" y="6702"/>
                  <a:pt x="12905" y="6655"/>
                  <a:pt x="12883" y="6644"/>
                </a:cubicBezTo>
                <a:cubicBezTo>
                  <a:pt x="12852" y="6628"/>
                  <a:pt x="12859" y="6620"/>
                  <a:pt x="12811" y="6620"/>
                </a:cubicBezTo>
                <a:cubicBezTo>
                  <a:pt x="12758" y="6620"/>
                  <a:pt x="12708" y="6608"/>
                  <a:pt x="12668" y="6644"/>
                </a:cubicBezTo>
                <a:cubicBezTo>
                  <a:pt x="12635" y="6673"/>
                  <a:pt x="12644" y="6698"/>
                  <a:pt x="12644" y="6739"/>
                </a:cubicBezTo>
                <a:cubicBezTo>
                  <a:pt x="12644" y="6782"/>
                  <a:pt x="12662" y="6877"/>
                  <a:pt x="12621" y="6882"/>
                </a:cubicBezTo>
                <a:cubicBezTo>
                  <a:pt x="12564" y="6889"/>
                  <a:pt x="12571" y="6887"/>
                  <a:pt x="12573" y="6882"/>
                </a:cubicBezTo>
                <a:cubicBezTo>
                  <a:pt x="12580" y="6865"/>
                  <a:pt x="12573" y="6828"/>
                  <a:pt x="12573" y="6810"/>
                </a:cubicBezTo>
                <a:cubicBezTo>
                  <a:pt x="12540" y="6834"/>
                  <a:pt x="12515" y="6841"/>
                  <a:pt x="12502" y="6882"/>
                </a:cubicBezTo>
                <a:cubicBezTo>
                  <a:pt x="12493" y="6911"/>
                  <a:pt x="12500" y="6942"/>
                  <a:pt x="12478" y="6953"/>
                </a:cubicBezTo>
                <a:cubicBezTo>
                  <a:pt x="12445" y="6970"/>
                  <a:pt x="12454" y="6978"/>
                  <a:pt x="12454" y="7025"/>
                </a:cubicBezTo>
                <a:cubicBezTo>
                  <a:pt x="12454" y="7049"/>
                  <a:pt x="12454" y="7072"/>
                  <a:pt x="12454" y="7096"/>
                </a:cubicBezTo>
                <a:cubicBezTo>
                  <a:pt x="12520" y="7096"/>
                  <a:pt x="12853" y="7120"/>
                  <a:pt x="12859" y="7072"/>
                </a:cubicBezTo>
                <a:cubicBezTo>
                  <a:pt x="12860" y="7065"/>
                  <a:pt x="12794" y="6982"/>
                  <a:pt x="12787" y="6977"/>
                </a:cubicBezTo>
                <a:cubicBezTo>
                  <a:pt x="12779" y="6977"/>
                  <a:pt x="12772" y="6977"/>
                  <a:pt x="12764" y="6977"/>
                </a:cubicBezTo>
                <a:cubicBezTo>
                  <a:pt x="12756" y="6977"/>
                  <a:pt x="12748" y="6977"/>
                  <a:pt x="12740" y="6977"/>
                </a:cubicBezTo>
                <a:cubicBezTo>
                  <a:pt x="12789" y="6977"/>
                  <a:pt x="12975" y="6947"/>
                  <a:pt x="13002" y="7001"/>
                </a:cubicBezTo>
                <a:cubicBezTo>
                  <a:pt x="13002" y="7009"/>
                  <a:pt x="13002" y="7017"/>
                  <a:pt x="13002" y="7025"/>
                </a:cubicBezTo>
                <a:cubicBezTo>
                  <a:pt x="12953" y="7025"/>
                  <a:pt x="12950" y="7011"/>
                  <a:pt x="12930" y="7001"/>
                </a:cubicBezTo>
                <a:cubicBezTo>
                  <a:pt x="12906" y="6989"/>
                  <a:pt x="12877" y="6979"/>
                  <a:pt x="12859" y="6977"/>
                </a:cubicBezTo>
                <a:cubicBezTo>
                  <a:pt x="12818" y="6972"/>
                  <a:pt x="12797" y="7014"/>
                  <a:pt x="12764" y="7025"/>
                </a:cubicBezTo>
                <a:cubicBezTo>
                  <a:pt x="12733" y="7035"/>
                  <a:pt x="12735" y="7063"/>
                  <a:pt x="12716" y="7072"/>
                </a:cubicBezTo>
                <a:cubicBezTo>
                  <a:pt x="12702" y="7079"/>
                  <a:pt x="12559" y="7072"/>
                  <a:pt x="12621" y="7072"/>
                </a:cubicBezTo>
                <a:cubicBezTo>
                  <a:pt x="12671" y="7072"/>
                  <a:pt x="12668" y="7070"/>
                  <a:pt x="12668" y="7120"/>
                </a:cubicBezTo>
                <a:cubicBezTo>
                  <a:pt x="12668" y="7167"/>
                  <a:pt x="12629" y="7146"/>
                  <a:pt x="12621" y="7120"/>
                </a:cubicBezTo>
                <a:cubicBezTo>
                  <a:pt x="12557" y="7120"/>
                  <a:pt x="12657" y="7120"/>
                  <a:pt x="12668" y="7120"/>
                </a:cubicBezTo>
                <a:cubicBezTo>
                  <a:pt x="12784" y="7120"/>
                  <a:pt x="12948" y="7135"/>
                  <a:pt x="13025" y="7096"/>
                </a:cubicBezTo>
                <a:cubicBezTo>
                  <a:pt x="13053" y="7082"/>
                  <a:pt x="13049" y="6993"/>
                  <a:pt x="13049" y="7025"/>
                </a:cubicBezTo>
                <a:cubicBezTo>
                  <a:pt x="13049" y="7088"/>
                  <a:pt x="13049" y="7152"/>
                  <a:pt x="13049" y="7215"/>
                </a:cubicBezTo>
                <a:cubicBezTo>
                  <a:pt x="12968" y="7215"/>
                  <a:pt x="12882" y="7215"/>
                  <a:pt x="12835" y="7191"/>
                </a:cubicBezTo>
                <a:cubicBezTo>
                  <a:pt x="12815" y="7181"/>
                  <a:pt x="12769" y="7170"/>
                  <a:pt x="12764" y="7168"/>
                </a:cubicBezTo>
                <a:cubicBezTo>
                  <a:pt x="12735" y="7154"/>
                  <a:pt x="12681" y="7150"/>
                  <a:pt x="12668" y="7144"/>
                </a:cubicBezTo>
                <a:cubicBezTo>
                  <a:pt x="12654" y="7137"/>
                  <a:pt x="12613" y="7144"/>
                  <a:pt x="12597" y="7144"/>
                </a:cubicBezTo>
              </a:path>
            </a:pathLst>
          </a:custGeom>
          <a:noFill/>
          <a:ln cap="sq" w="12708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Next to the mountain was a river. 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在山旁边有一条河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8" name="Content Placeholder 3" descr="river.jpg"/>
          <p:cNvPicPr/>
          <p:nvPr/>
        </p:nvPicPr>
        <p:blipFill>
          <a:blip r:embed="rId1"/>
          <a:stretch/>
        </p:blipFill>
        <p:spPr>
          <a:xfrm>
            <a:off x="2209680" y="24717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79" name="Recorded Sound" descr=""/>
          <p:cNvPicPr/>
          <p:nvPr/>
        </p:nvPicPr>
        <p:blipFill>
          <a:blip r:embed="rId2"/>
          <a:stretch/>
        </p:blipFill>
        <p:spPr>
          <a:xfrm>
            <a:off x="-99072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 loved to catch fish</a:t>
            </a: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bob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喜欢抓鱼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81" name="Content Placeholder 3" descr="fish.jpg"/>
          <p:cNvPicPr/>
          <p:nvPr/>
        </p:nvPicPr>
        <p:blipFill>
          <a:blip r:embed="rId1"/>
          <a:stretch/>
        </p:blipFill>
        <p:spPr>
          <a:xfrm>
            <a:off x="2286000" y="24145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82" name="Recorded Sound" descr=""/>
          <p:cNvPicPr/>
          <p:nvPr/>
        </p:nvPicPr>
        <p:blipFill>
          <a:blip r:embed="rId2"/>
          <a:stretch/>
        </p:blipFill>
        <p:spPr>
          <a:xfrm>
            <a:off x="-1066680" y="3200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Ink 4"/>
          <p:cNvSpPr/>
          <p:nvPr/>
        </p:nvSpPr>
        <p:spPr>
          <a:xfrm>
            <a:off x="6361200" y="2538360"/>
            <a:ext cx="471240" cy="1525680"/>
          </a:xfrm>
          <a:custGeom>
            <a:avLst/>
            <a:gdLst/>
            <a:ahLst/>
            <a:rect l="l" t="t" r="r" b="b"/>
            <a:pathLst>
              <a:path w="1311" h="4239">
                <a:moveTo>
                  <a:pt x="18979" y="7049"/>
                </a:moveTo>
                <a:cubicBezTo>
                  <a:pt x="18979" y="7057"/>
                  <a:pt x="18979" y="7064"/>
                  <a:pt x="18979" y="7072"/>
                </a:cubicBezTo>
                <a:cubicBezTo>
                  <a:pt x="18978" y="7076"/>
                  <a:pt x="18961" y="7136"/>
                  <a:pt x="18955" y="7168"/>
                </a:cubicBezTo>
                <a:cubicBezTo>
                  <a:pt x="18949" y="7202"/>
                  <a:pt x="18939" y="7227"/>
                  <a:pt x="18931" y="7263"/>
                </a:cubicBezTo>
                <a:cubicBezTo>
                  <a:pt x="18918" y="7320"/>
                  <a:pt x="18897" y="7381"/>
                  <a:pt x="18883" y="7430"/>
                </a:cubicBezTo>
                <a:cubicBezTo>
                  <a:pt x="18869" y="7478"/>
                  <a:pt x="18871" y="7524"/>
                  <a:pt x="18860" y="7572"/>
                </a:cubicBezTo>
                <a:cubicBezTo>
                  <a:pt x="18845" y="7639"/>
                  <a:pt x="18827" y="7679"/>
                  <a:pt x="18812" y="7739"/>
                </a:cubicBezTo>
                <a:cubicBezTo>
                  <a:pt x="18804" y="7773"/>
                  <a:pt x="18797" y="7798"/>
                  <a:pt x="18788" y="7834"/>
                </a:cubicBezTo>
                <a:cubicBezTo>
                  <a:pt x="18774" y="7891"/>
                  <a:pt x="18756" y="7944"/>
                  <a:pt x="18740" y="8001"/>
                </a:cubicBezTo>
                <a:cubicBezTo>
                  <a:pt x="18729" y="8040"/>
                  <a:pt x="18701" y="8080"/>
                  <a:pt x="18693" y="8096"/>
                </a:cubicBezTo>
                <a:cubicBezTo>
                  <a:pt x="18678" y="8140"/>
                  <a:pt x="18663" y="8177"/>
                  <a:pt x="18645" y="8215"/>
                </a:cubicBezTo>
                <a:cubicBezTo>
                  <a:pt x="18631" y="8244"/>
                  <a:pt x="18610" y="8281"/>
                  <a:pt x="18598" y="8311"/>
                </a:cubicBezTo>
                <a:cubicBezTo>
                  <a:pt x="18585" y="8346"/>
                  <a:pt x="18579" y="8366"/>
                  <a:pt x="18574" y="8406"/>
                </a:cubicBezTo>
                <a:cubicBezTo>
                  <a:pt x="18567" y="8466"/>
                  <a:pt x="18555" y="8540"/>
                  <a:pt x="18550" y="8596"/>
                </a:cubicBezTo>
                <a:cubicBezTo>
                  <a:pt x="18540" y="8708"/>
                  <a:pt x="18543" y="8830"/>
                  <a:pt x="18526" y="8930"/>
                </a:cubicBezTo>
                <a:cubicBezTo>
                  <a:pt x="18514" y="9002"/>
                  <a:pt x="18494" y="9081"/>
                  <a:pt x="18479" y="9144"/>
                </a:cubicBezTo>
                <a:cubicBezTo>
                  <a:pt x="18472" y="9174"/>
                  <a:pt x="18460" y="9215"/>
                  <a:pt x="18455" y="9239"/>
                </a:cubicBezTo>
                <a:cubicBezTo>
                  <a:pt x="18445" y="9285"/>
                  <a:pt x="18443" y="9336"/>
                  <a:pt x="18431" y="9382"/>
                </a:cubicBezTo>
                <a:cubicBezTo>
                  <a:pt x="18414" y="9447"/>
                  <a:pt x="18402" y="9470"/>
                  <a:pt x="18383" y="9525"/>
                </a:cubicBezTo>
                <a:cubicBezTo>
                  <a:pt x="18374" y="9552"/>
                  <a:pt x="18366" y="9596"/>
                  <a:pt x="18359" y="9620"/>
                </a:cubicBezTo>
                <a:cubicBezTo>
                  <a:pt x="18349" y="9654"/>
                  <a:pt x="18344" y="9683"/>
                  <a:pt x="18336" y="9716"/>
                </a:cubicBezTo>
                <a:cubicBezTo>
                  <a:pt x="18326" y="9757"/>
                  <a:pt x="18326" y="9796"/>
                  <a:pt x="18312" y="9835"/>
                </a:cubicBezTo>
                <a:cubicBezTo>
                  <a:pt x="18298" y="9874"/>
                  <a:pt x="18278" y="9914"/>
                  <a:pt x="18264" y="9954"/>
                </a:cubicBezTo>
                <a:cubicBezTo>
                  <a:pt x="18244" y="10010"/>
                  <a:pt x="18217" y="10069"/>
                  <a:pt x="18193" y="10120"/>
                </a:cubicBezTo>
                <a:cubicBezTo>
                  <a:pt x="18177" y="10153"/>
                  <a:pt x="18163" y="10183"/>
                  <a:pt x="18145" y="10216"/>
                </a:cubicBezTo>
                <a:cubicBezTo>
                  <a:pt x="18117" y="10270"/>
                  <a:pt x="18115" y="10305"/>
                  <a:pt x="18098" y="10358"/>
                </a:cubicBezTo>
                <a:cubicBezTo>
                  <a:pt x="18093" y="10371"/>
                  <a:pt x="18061" y="10438"/>
                  <a:pt x="18050" y="10478"/>
                </a:cubicBezTo>
                <a:cubicBezTo>
                  <a:pt x="18040" y="10516"/>
                  <a:pt x="18036" y="10559"/>
                  <a:pt x="18026" y="10597"/>
                </a:cubicBezTo>
                <a:cubicBezTo>
                  <a:pt x="18014" y="10644"/>
                  <a:pt x="17998" y="10689"/>
                  <a:pt x="17978" y="10739"/>
                </a:cubicBezTo>
                <a:cubicBezTo>
                  <a:pt x="17965" y="10771"/>
                  <a:pt x="17942" y="10804"/>
                  <a:pt x="17931" y="10835"/>
                </a:cubicBezTo>
                <a:cubicBezTo>
                  <a:pt x="17931" y="10843"/>
                  <a:pt x="17931" y="10851"/>
                  <a:pt x="17931" y="10859"/>
                </a:cubicBezTo>
                <a:cubicBezTo>
                  <a:pt x="17927" y="10866"/>
                  <a:pt x="17890" y="10903"/>
                  <a:pt x="17883" y="10930"/>
                </a:cubicBezTo>
                <a:cubicBezTo>
                  <a:pt x="17883" y="10962"/>
                  <a:pt x="17883" y="10977"/>
                  <a:pt x="17883" y="11001"/>
                </a:cubicBezTo>
                <a:cubicBezTo>
                  <a:pt x="17850" y="11023"/>
                  <a:pt x="17867" y="11001"/>
                  <a:pt x="17859" y="11049"/>
                </a:cubicBezTo>
                <a:cubicBezTo>
                  <a:pt x="17834" y="11055"/>
                  <a:pt x="17831" y="11058"/>
                  <a:pt x="17812" y="11073"/>
                </a:cubicBezTo>
                <a:cubicBezTo>
                  <a:pt x="17805" y="11099"/>
                  <a:pt x="17803" y="11101"/>
                  <a:pt x="17788" y="11120"/>
                </a:cubicBezTo>
                <a:cubicBezTo>
                  <a:pt x="17767" y="11145"/>
                  <a:pt x="17739" y="11180"/>
                  <a:pt x="17717" y="11216"/>
                </a:cubicBezTo>
                <a:cubicBezTo>
                  <a:pt x="17705" y="11235"/>
                  <a:pt x="17684" y="11263"/>
                  <a:pt x="17669" y="112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Ink 5"/>
          <p:cNvSpPr/>
          <p:nvPr/>
        </p:nvSpPr>
        <p:spPr>
          <a:xfrm>
            <a:off x="5726160" y="3557520"/>
            <a:ext cx="1252440" cy="1500120"/>
          </a:xfrm>
          <a:custGeom>
            <a:avLst/>
            <a:gdLst/>
            <a:ahLst/>
            <a:rect l="l" t="t" r="r" b="b"/>
            <a:pathLst>
              <a:path w="3477" h="4168">
                <a:moveTo>
                  <a:pt x="17645" y="11216"/>
                </a:moveTo>
                <a:cubicBezTo>
                  <a:pt x="17645" y="11271"/>
                  <a:pt x="17645" y="11327"/>
                  <a:pt x="17645" y="11382"/>
                </a:cubicBezTo>
                <a:cubicBezTo>
                  <a:pt x="17701" y="11382"/>
                  <a:pt x="17756" y="11382"/>
                  <a:pt x="17812" y="11382"/>
                </a:cubicBezTo>
              </a:path>
              <a:path w="3477" h="4168">
                <a:moveTo>
                  <a:pt x="17621" y="10739"/>
                </a:moveTo>
                <a:cubicBezTo>
                  <a:pt x="17482" y="10739"/>
                  <a:pt x="17289" y="10709"/>
                  <a:pt x="17169" y="10763"/>
                </a:cubicBezTo>
                <a:cubicBezTo>
                  <a:pt x="17126" y="10782"/>
                  <a:pt x="17105" y="10815"/>
                  <a:pt x="17074" y="10859"/>
                </a:cubicBezTo>
                <a:cubicBezTo>
                  <a:pt x="17056" y="10884"/>
                  <a:pt x="17011" y="10946"/>
                  <a:pt x="17002" y="10978"/>
                </a:cubicBezTo>
                <a:cubicBezTo>
                  <a:pt x="16988" y="11027"/>
                  <a:pt x="16964" y="11099"/>
                  <a:pt x="16955" y="11144"/>
                </a:cubicBezTo>
                <a:cubicBezTo>
                  <a:pt x="16947" y="11185"/>
                  <a:pt x="16943" y="11223"/>
                  <a:pt x="16931" y="11263"/>
                </a:cubicBezTo>
                <a:cubicBezTo>
                  <a:pt x="16913" y="11320"/>
                  <a:pt x="16907" y="11367"/>
                  <a:pt x="16907" y="11430"/>
                </a:cubicBezTo>
                <a:cubicBezTo>
                  <a:pt x="16907" y="11562"/>
                  <a:pt x="16891" y="11718"/>
                  <a:pt x="16931" y="11835"/>
                </a:cubicBezTo>
                <a:cubicBezTo>
                  <a:pt x="16942" y="11868"/>
                  <a:pt x="16962" y="11888"/>
                  <a:pt x="16978" y="11906"/>
                </a:cubicBezTo>
                <a:cubicBezTo>
                  <a:pt x="16993" y="11922"/>
                  <a:pt x="17008" y="11955"/>
                  <a:pt x="17026" y="11978"/>
                </a:cubicBezTo>
                <a:cubicBezTo>
                  <a:pt x="17034" y="11988"/>
                  <a:pt x="17073" y="12013"/>
                  <a:pt x="17097" y="12025"/>
                </a:cubicBezTo>
                <a:cubicBezTo>
                  <a:pt x="17135" y="12045"/>
                  <a:pt x="17143" y="12057"/>
                  <a:pt x="17169" y="12073"/>
                </a:cubicBezTo>
                <a:cubicBezTo>
                  <a:pt x="17191" y="12086"/>
                  <a:pt x="17260" y="12143"/>
                  <a:pt x="17264" y="12144"/>
                </a:cubicBezTo>
                <a:cubicBezTo>
                  <a:pt x="17487" y="12229"/>
                  <a:pt x="17904" y="12144"/>
                  <a:pt x="18145" y="12144"/>
                </a:cubicBezTo>
              </a:path>
              <a:path w="3477" h="4168">
                <a:moveTo>
                  <a:pt x="18217" y="10978"/>
                </a:moveTo>
                <a:cubicBezTo>
                  <a:pt x="18217" y="11021"/>
                  <a:pt x="18236" y="11035"/>
                  <a:pt x="18240" y="11073"/>
                </a:cubicBezTo>
                <a:cubicBezTo>
                  <a:pt x="18244" y="11107"/>
                  <a:pt x="18257" y="11135"/>
                  <a:pt x="18264" y="11168"/>
                </a:cubicBezTo>
                <a:cubicBezTo>
                  <a:pt x="18292" y="11187"/>
                  <a:pt x="18284" y="11197"/>
                  <a:pt x="18312" y="11216"/>
                </a:cubicBezTo>
                <a:cubicBezTo>
                  <a:pt x="18312" y="11284"/>
                  <a:pt x="18337" y="11303"/>
                  <a:pt x="18359" y="11359"/>
                </a:cubicBezTo>
                <a:cubicBezTo>
                  <a:pt x="18359" y="11382"/>
                  <a:pt x="18359" y="11390"/>
                  <a:pt x="18383" y="11382"/>
                </a:cubicBezTo>
                <a:cubicBezTo>
                  <a:pt x="18383" y="11423"/>
                  <a:pt x="18373" y="11419"/>
                  <a:pt x="18407" y="11430"/>
                </a:cubicBezTo>
                <a:cubicBezTo>
                  <a:pt x="18417" y="11479"/>
                  <a:pt x="18446" y="11525"/>
                  <a:pt x="18455" y="11573"/>
                </a:cubicBezTo>
                <a:cubicBezTo>
                  <a:pt x="18478" y="11701"/>
                  <a:pt x="18462" y="11891"/>
                  <a:pt x="18431" y="12002"/>
                </a:cubicBezTo>
                <a:cubicBezTo>
                  <a:pt x="18423" y="12032"/>
                  <a:pt x="18398" y="12094"/>
                  <a:pt x="18383" y="12121"/>
                </a:cubicBezTo>
                <a:cubicBezTo>
                  <a:pt x="18354" y="12149"/>
                  <a:pt x="18343" y="12162"/>
                  <a:pt x="18336" y="12192"/>
                </a:cubicBezTo>
              </a:path>
              <a:path w="3477" h="4168">
                <a:moveTo>
                  <a:pt x="17859" y="10168"/>
                </a:moveTo>
                <a:cubicBezTo>
                  <a:pt x="17682" y="10168"/>
                  <a:pt x="17450" y="10152"/>
                  <a:pt x="17312" y="10192"/>
                </a:cubicBezTo>
                <a:cubicBezTo>
                  <a:pt x="17274" y="10203"/>
                  <a:pt x="17257" y="10207"/>
                  <a:pt x="17240" y="10216"/>
                </a:cubicBezTo>
                <a:cubicBezTo>
                  <a:pt x="17213" y="10230"/>
                  <a:pt x="17200" y="10232"/>
                  <a:pt x="17169" y="10263"/>
                </a:cubicBezTo>
                <a:cubicBezTo>
                  <a:pt x="17140" y="10292"/>
                  <a:pt x="17113" y="10319"/>
                  <a:pt x="17097" y="10335"/>
                </a:cubicBezTo>
                <a:cubicBezTo>
                  <a:pt x="17065" y="10366"/>
                  <a:pt x="17060" y="10378"/>
                  <a:pt x="17026" y="10406"/>
                </a:cubicBezTo>
                <a:cubicBezTo>
                  <a:pt x="17003" y="10425"/>
                  <a:pt x="16988" y="10426"/>
                  <a:pt x="16955" y="10454"/>
                </a:cubicBezTo>
                <a:cubicBezTo>
                  <a:pt x="16935" y="10471"/>
                  <a:pt x="16925" y="10484"/>
                  <a:pt x="16907" y="10501"/>
                </a:cubicBezTo>
                <a:cubicBezTo>
                  <a:pt x="16887" y="10520"/>
                  <a:pt x="16855" y="10530"/>
                  <a:pt x="16835" y="10549"/>
                </a:cubicBezTo>
                <a:cubicBezTo>
                  <a:pt x="16766" y="10618"/>
                  <a:pt x="16762" y="10653"/>
                  <a:pt x="16740" y="10739"/>
                </a:cubicBezTo>
                <a:cubicBezTo>
                  <a:pt x="16732" y="10769"/>
                  <a:pt x="16728" y="10830"/>
                  <a:pt x="16716" y="10859"/>
                </a:cubicBezTo>
                <a:cubicBezTo>
                  <a:pt x="16709" y="10876"/>
                  <a:pt x="16684" y="10895"/>
                  <a:pt x="16669" y="10930"/>
                </a:cubicBezTo>
                <a:cubicBezTo>
                  <a:pt x="16653" y="10966"/>
                  <a:pt x="16637" y="11011"/>
                  <a:pt x="16621" y="11049"/>
                </a:cubicBezTo>
                <a:cubicBezTo>
                  <a:pt x="16607" y="11082"/>
                  <a:pt x="16588" y="11111"/>
                  <a:pt x="16574" y="11144"/>
                </a:cubicBezTo>
                <a:cubicBezTo>
                  <a:pt x="16554" y="11193"/>
                  <a:pt x="16540" y="11238"/>
                  <a:pt x="16526" y="11287"/>
                </a:cubicBezTo>
                <a:cubicBezTo>
                  <a:pt x="16515" y="11328"/>
                  <a:pt x="16506" y="11363"/>
                  <a:pt x="16502" y="11406"/>
                </a:cubicBezTo>
                <a:cubicBezTo>
                  <a:pt x="16480" y="11657"/>
                  <a:pt x="16506" y="11926"/>
                  <a:pt x="16526" y="12168"/>
                </a:cubicBezTo>
                <a:cubicBezTo>
                  <a:pt x="16531" y="12231"/>
                  <a:pt x="16535" y="12259"/>
                  <a:pt x="16550" y="12311"/>
                </a:cubicBezTo>
                <a:cubicBezTo>
                  <a:pt x="16573" y="12391"/>
                  <a:pt x="16577" y="12365"/>
                  <a:pt x="16597" y="12430"/>
                </a:cubicBezTo>
                <a:cubicBezTo>
                  <a:pt x="16610" y="12472"/>
                  <a:pt x="16630" y="12509"/>
                  <a:pt x="16645" y="12549"/>
                </a:cubicBezTo>
                <a:cubicBezTo>
                  <a:pt x="16659" y="12585"/>
                  <a:pt x="16652" y="12609"/>
                  <a:pt x="16669" y="12644"/>
                </a:cubicBezTo>
                <a:cubicBezTo>
                  <a:pt x="16691" y="12690"/>
                  <a:pt x="16727" y="12723"/>
                  <a:pt x="16764" y="12764"/>
                </a:cubicBezTo>
                <a:cubicBezTo>
                  <a:pt x="16786" y="12789"/>
                  <a:pt x="16823" y="12825"/>
                  <a:pt x="16835" y="12835"/>
                </a:cubicBezTo>
                <a:cubicBezTo>
                  <a:pt x="16856" y="12852"/>
                  <a:pt x="16873" y="12861"/>
                  <a:pt x="16907" y="12883"/>
                </a:cubicBezTo>
                <a:cubicBezTo>
                  <a:pt x="16945" y="12908"/>
                  <a:pt x="17006" y="12966"/>
                  <a:pt x="17026" y="12978"/>
                </a:cubicBezTo>
                <a:cubicBezTo>
                  <a:pt x="17053" y="12994"/>
                  <a:pt x="17091" y="13009"/>
                  <a:pt x="17121" y="13025"/>
                </a:cubicBezTo>
                <a:cubicBezTo>
                  <a:pt x="17172" y="13052"/>
                  <a:pt x="17234" y="13091"/>
                  <a:pt x="17288" y="13121"/>
                </a:cubicBezTo>
                <a:cubicBezTo>
                  <a:pt x="17320" y="13139"/>
                  <a:pt x="17397" y="13179"/>
                  <a:pt x="17431" y="13192"/>
                </a:cubicBezTo>
                <a:cubicBezTo>
                  <a:pt x="17479" y="13210"/>
                  <a:pt x="17554" y="13254"/>
                  <a:pt x="17597" y="13264"/>
                </a:cubicBezTo>
                <a:cubicBezTo>
                  <a:pt x="17683" y="13284"/>
                  <a:pt x="17777" y="13291"/>
                  <a:pt x="17859" y="13311"/>
                </a:cubicBezTo>
                <a:cubicBezTo>
                  <a:pt x="17916" y="13325"/>
                  <a:pt x="17966" y="13330"/>
                  <a:pt x="18026" y="13335"/>
                </a:cubicBezTo>
                <a:cubicBezTo>
                  <a:pt x="18224" y="13350"/>
                  <a:pt x="18516" y="13370"/>
                  <a:pt x="18693" y="13311"/>
                </a:cubicBezTo>
                <a:cubicBezTo>
                  <a:pt x="18737" y="13297"/>
                  <a:pt x="18746" y="13286"/>
                  <a:pt x="18788" y="13264"/>
                </a:cubicBezTo>
                <a:cubicBezTo>
                  <a:pt x="18824" y="13245"/>
                  <a:pt x="18847" y="13220"/>
                  <a:pt x="18883" y="13192"/>
                </a:cubicBezTo>
                <a:cubicBezTo>
                  <a:pt x="18915" y="13167"/>
                  <a:pt x="18959" y="13145"/>
                  <a:pt x="18979" y="13121"/>
                </a:cubicBezTo>
                <a:cubicBezTo>
                  <a:pt x="19008" y="13087"/>
                  <a:pt x="19008" y="13075"/>
                  <a:pt x="19026" y="13049"/>
                </a:cubicBezTo>
                <a:cubicBezTo>
                  <a:pt x="19048" y="13018"/>
                  <a:pt x="19056" y="12982"/>
                  <a:pt x="19074" y="12954"/>
                </a:cubicBezTo>
                <a:cubicBezTo>
                  <a:pt x="19098" y="12918"/>
                  <a:pt x="19126" y="12896"/>
                  <a:pt x="19145" y="12859"/>
                </a:cubicBezTo>
                <a:cubicBezTo>
                  <a:pt x="19162" y="12826"/>
                  <a:pt x="19160" y="12834"/>
                  <a:pt x="19169" y="12787"/>
                </a:cubicBezTo>
                <a:cubicBezTo>
                  <a:pt x="19176" y="12747"/>
                  <a:pt x="19189" y="12705"/>
                  <a:pt x="19193" y="12692"/>
                </a:cubicBezTo>
                <a:cubicBezTo>
                  <a:pt x="19203" y="12662"/>
                  <a:pt x="19208" y="12651"/>
                  <a:pt x="19217" y="12621"/>
                </a:cubicBezTo>
                <a:cubicBezTo>
                  <a:pt x="19224" y="12597"/>
                  <a:pt x="19229" y="12546"/>
                  <a:pt x="19241" y="12525"/>
                </a:cubicBezTo>
                <a:cubicBezTo>
                  <a:pt x="19245" y="12519"/>
                  <a:pt x="19280" y="12488"/>
                  <a:pt x="19288" y="12478"/>
                </a:cubicBezTo>
                <a:cubicBezTo>
                  <a:pt x="19307" y="12456"/>
                  <a:pt x="19320" y="12434"/>
                  <a:pt x="19336" y="12406"/>
                </a:cubicBezTo>
                <a:cubicBezTo>
                  <a:pt x="19359" y="12366"/>
                  <a:pt x="19372" y="12369"/>
                  <a:pt x="19383" y="12335"/>
                </a:cubicBezTo>
                <a:cubicBezTo>
                  <a:pt x="19383" y="12311"/>
                  <a:pt x="19383" y="12303"/>
                  <a:pt x="19383" y="12287"/>
                </a:cubicBezTo>
              </a:path>
              <a:path w="3477" h="4168">
                <a:moveTo>
                  <a:pt x="18717" y="10454"/>
                </a:moveTo>
                <a:cubicBezTo>
                  <a:pt x="18761" y="10454"/>
                  <a:pt x="18773" y="10474"/>
                  <a:pt x="18812" y="10478"/>
                </a:cubicBezTo>
                <a:cubicBezTo>
                  <a:pt x="18856" y="10483"/>
                  <a:pt x="18870" y="10489"/>
                  <a:pt x="18907" y="10501"/>
                </a:cubicBezTo>
                <a:cubicBezTo>
                  <a:pt x="18915" y="10501"/>
                  <a:pt x="18923" y="10501"/>
                  <a:pt x="18931" y="10501"/>
                </a:cubicBezTo>
                <a:cubicBezTo>
                  <a:pt x="18944" y="10539"/>
                  <a:pt x="18942" y="10511"/>
                  <a:pt x="18955" y="10549"/>
                </a:cubicBezTo>
                <a:cubicBezTo>
                  <a:pt x="18978" y="10557"/>
                  <a:pt x="18999" y="10558"/>
                  <a:pt x="19026" y="10573"/>
                </a:cubicBezTo>
                <a:cubicBezTo>
                  <a:pt x="19047" y="10594"/>
                  <a:pt x="19055" y="10599"/>
                  <a:pt x="19050" y="10620"/>
                </a:cubicBezTo>
                <a:cubicBezTo>
                  <a:pt x="19078" y="10639"/>
                  <a:pt x="19070" y="10649"/>
                  <a:pt x="19098" y="10668"/>
                </a:cubicBezTo>
                <a:cubicBezTo>
                  <a:pt x="19098" y="10702"/>
                  <a:pt x="19104" y="10738"/>
                  <a:pt x="19121" y="10763"/>
                </a:cubicBezTo>
                <a:cubicBezTo>
                  <a:pt x="19145" y="10799"/>
                  <a:pt x="19145" y="10792"/>
                  <a:pt x="19145" y="10835"/>
                </a:cubicBezTo>
                <a:cubicBezTo>
                  <a:pt x="19183" y="10848"/>
                  <a:pt x="19155" y="10846"/>
                  <a:pt x="19193" y="10859"/>
                </a:cubicBezTo>
                <a:cubicBezTo>
                  <a:pt x="19203" y="10896"/>
                  <a:pt x="19217" y="10911"/>
                  <a:pt x="19217" y="10954"/>
                </a:cubicBezTo>
                <a:cubicBezTo>
                  <a:pt x="19217" y="10997"/>
                  <a:pt x="19232" y="11012"/>
                  <a:pt x="19241" y="11049"/>
                </a:cubicBezTo>
              </a:path>
              <a:path w="3477" h="4168">
                <a:moveTo>
                  <a:pt x="16978" y="9906"/>
                </a:moveTo>
                <a:cubicBezTo>
                  <a:pt x="16888" y="9906"/>
                  <a:pt x="16791" y="9925"/>
                  <a:pt x="16716" y="9930"/>
                </a:cubicBezTo>
                <a:cubicBezTo>
                  <a:pt x="16621" y="9936"/>
                  <a:pt x="16550" y="9907"/>
                  <a:pt x="16478" y="9977"/>
                </a:cubicBezTo>
                <a:cubicBezTo>
                  <a:pt x="16458" y="9996"/>
                  <a:pt x="16472" y="10027"/>
                  <a:pt x="16454" y="10049"/>
                </a:cubicBezTo>
                <a:cubicBezTo>
                  <a:pt x="16414" y="10097"/>
                  <a:pt x="16389" y="10136"/>
                  <a:pt x="16359" y="10192"/>
                </a:cubicBezTo>
                <a:cubicBezTo>
                  <a:pt x="16344" y="10220"/>
                  <a:pt x="16318" y="10276"/>
                  <a:pt x="16312" y="10287"/>
                </a:cubicBezTo>
                <a:cubicBezTo>
                  <a:pt x="16292" y="10326"/>
                  <a:pt x="16261" y="10365"/>
                  <a:pt x="16240" y="10406"/>
                </a:cubicBezTo>
                <a:cubicBezTo>
                  <a:pt x="16226" y="10434"/>
                  <a:pt x="16208" y="10470"/>
                  <a:pt x="16193" y="10501"/>
                </a:cubicBezTo>
                <a:cubicBezTo>
                  <a:pt x="16178" y="10532"/>
                  <a:pt x="16164" y="10591"/>
                  <a:pt x="16145" y="10620"/>
                </a:cubicBezTo>
                <a:cubicBezTo>
                  <a:pt x="16113" y="10670"/>
                  <a:pt x="16076" y="10713"/>
                  <a:pt x="16050" y="10763"/>
                </a:cubicBezTo>
                <a:cubicBezTo>
                  <a:pt x="16031" y="10800"/>
                  <a:pt x="15987" y="10843"/>
                  <a:pt x="15978" y="10859"/>
                </a:cubicBezTo>
                <a:cubicBezTo>
                  <a:pt x="15959" y="10892"/>
                  <a:pt x="15945" y="10940"/>
                  <a:pt x="15931" y="10978"/>
                </a:cubicBezTo>
                <a:cubicBezTo>
                  <a:pt x="15918" y="11011"/>
                  <a:pt x="15914" y="11019"/>
                  <a:pt x="15907" y="11073"/>
                </a:cubicBezTo>
                <a:cubicBezTo>
                  <a:pt x="15895" y="11171"/>
                  <a:pt x="15926" y="11274"/>
                  <a:pt x="15931" y="11359"/>
                </a:cubicBezTo>
                <a:cubicBezTo>
                  <a:pt x="15949" y="11648"/>
                  <a:pt x="15877" y="11993"/>
                  <a:pt x="15954" y="12263"/>
                </a:cubicBezTo>
                <a:cubicBezTo>
                  <a:pt x="15967" y="12309"/>
                  <a:pt x="15986" y="12362"/>
                  <a:pt x="16002" y="12406"/>
                </a:cubicBezTo>
                <a:cubicBezTo>
                  <a:pt x="16025" y="12472"/>
                  <a:pt x="16037" y="12529"/>
                  <a:pt x="16050" y="12597"/>
                </a:cubicBezTo>
                <a:cubicBezTo>
                  <a:pt x="16064" y="12670"/>
                  <a:pt x="16060" y="12664"/>
                  <a:pt x="16073" y="12740"/>
                </a:cubicBezTo>
                <a:cubicBezTo>
                  <a:pt x="16077" y="12761"/>
                  <a:pt x="16088" y="12861"/>
                  <a:pt x="16097" y="12883"/>
                </a:cubicBezTo>
                <a:cubicBezTo>
                  <a:pt x="16102" y="12896"/>
                  <a:pt x="16156" y="12971"/>
                  <a:pt x="16169" y="13002"/>
                </a:cubicBezTo>
                <a:cubicBezTo>
                  <a:pt x="16191" y="13053"/>
                  <a:pt x="16201" y="13093"/>
                  <a:pt x="16240" y="13145"/>
                </a:cubicBezTo>
                <a:cubicBezTo>
                  <a:pt x="16287" y="13207"/>
                  <a:pt x="16378" y="13280"/>
                  <a:pt x="16407" y="13335"/>
                </a:cubicBezTo>
                <a:cubicBezTo>
                  <a:pt x="16407" y="13351"/>
                  <a:pt x="16407" y="13367"/>
                  <a:pt x="16407" y="13383"/>
                </a:cubicBezTo>
                <a:cubicBezTo>
                  <a:pt x="16439" y="13405"/>
                  <a:pt x="16514" y="13427"/>
                  <a:pt x="16550" y="13454"/>
                </a:cubicBezTo>
                <a:cubicBezTo>
                  <a:pt x="16570" y="13469"/>
                  <a:pt x="16588" y="13506"/>
                  <a:pt x="16621" y="13526"/>
                </a:cubicBezTo>
                <a:cubicBezTo>
                  <a:pt x="16659" y="13549"/>
                  <a:pt x="16743" y="13610"/>
                  <a:pt x="16764" y="13621"/>
                </a:cubicBezTo>
                <a:cubicBezTo>
                  <a:pt x="16808" y="13643"/>
                  <a:pt x="16849" y="13648"/>
                  <a:pt x="16883" y="13668"/>
                </a:cubicBezTo>
                <a:cubicBezTo>
                  <a:pt x="16929" y="13694"/>
                  <a:pt x="16980" y="13718"/>
                  <a:pt x="17026" y="13740"/>
                </a:cubicBezTo>
                <a:cubicBezTo>
                  <a:pt x="17090" y="13770"/>
                  <a:pt x="17157" y="13810"/>
                  <a:pt x="17216" y="13835"/>
                </a:cubicBezTo>
                <a:cubicBezTo>
                  <a:pt x="17256" y="13852"/>
                  <a:pt x="17296" y="13863"/>
                  <a:pt x="17336" y="13883"/>
                </a:cubicBezTo>
                <a:cubicBezTo>
                  <a:pt x="17376" y="13902"/>
                  <a:pt x="17412" y="13917"/>
                  <a:pt x="17455" y="13930"/>
                </a:cubicBezTo>
                <a:cubicBezTo>
                  <a:pt x="17497" y="13942"/>
                  <a:pt x="17530" y="13945"/>
                  <a:pt x="17574" y="13954"/>
                </a:cubicBezTo>
                <a:cubicBezTo>
                  <a:pt x="17657" y="13971"/>
                  <a:pt x="17730" y="13972"/>
                  <a:pt x="17812" y="13978"/>
                </a:cubicBezTo>
                <a:cubicBezTo>
                  <a:pt x="17914" y="13985"/>
                  <a:pt x="18001" y="14014"/>
                  <a:pt x="18098" y="14026"/>
                </a:cubicBezTo>
                <a:cubicBezTo>
                  <a:pt x="18206" y="14039"/>
                  <a:pt x="18324" y="14042"/>
                  <a:pt x="18431" y="14049"/>
                </a:cubicBezTo>
                <a:cubicBezTo>
                  <a:pt x="18628" y="14061"/>
                  <a:pt x="18829" y="14049"/>
                  <a:pt x="19026" y="14049"/>
                </a:cubicBezTo>
              </a:path>
              <a:path w="3477" h="4168">
                <a:moveTo>
                  <a:pt x="18836" y="9882"/>
                </a:moveTo>
                <a:lnTo>
                  <a:pt x="18836" y="9882"/>
                </a:lnTo>
              </a:path>
              <a:path w="3477" h="4168">
                <a:moveTo>
                  <a:pt x="18836" y="9882"/>
                </a:moveTo>
                <a:cubicBezTo>
                  <a:pt x="18891" y="9882"/>
                  <a:pt x="18947" y="9882"/>
                  <a:pt x="19002" y="9882"/>
                </a:cubicBezTo>
              </a:path>
              <a:path w="3477" h="4168">
                <a:moveTo>
                  <a:pt x="17645" y="11525"/>
                </a:moveTo>
                <a:cubicBezTo>
                  <a:pt x="17637" y="11525"/>
                  <a:pt x="17629" y="11525"/>
                  <a:pt x="17621" y="11525"/>
                </a:cubicBezTo>
              </a:path>
              <a:path w="3477" h="4168">
                <a:moveTo>
                  <a:pt x="17502" y="11454"/>
                </a:moveTo>
                <a:cubicBezTo>
                  <a:pt x="17448" y="11459"/>
                  <a:pt x="17434" y="11462"/>
                  <a:pt x="17407" y="11478"/>
                </a:cubicBezTo>
                <a:cubicBezTo>
                  <a:pt x="17383" y="11478"/>
                  <a:pt x="17375" y="11478"/>
                  <a:pt x="17383" y="11501"/>
                </a:cubicBezTo>
                <a:cubicBezTo>
                  <a:pt x="17404" y="11508"/>
                  <a:pt x="17422" y="11523"/>
                  <a:pt x="17478" y="11525"/>
                </a:cubicBezTo>
                <a:cubicBezTo>
                  <a:pt x="17557" y="11528"/>
                  <a:pt x="17638" y="11525"/>
                  <a:pt x="17717" y="11525"/>
                </a:cubicBezTo>
                <a:cubicBezTo>
                  <a:pt x="17713" y="11567"/>
                  <a:pt x="17698" y="11584"/>
                  <a:pt x="17693" y="11597"/>
                </a:cubicBezTo>
                <a:cubicBezTo>
                  <a:pt x="17677" y="11641"/>
                  <a:pt x="17692" y="11656"/>
                  <a:pt x="17645" y="11692"/>
                </a:cubicBezTo>
                <a:cubicBezTo>
                  <a:pt x="17619" y="11712"/>
                  <a:pt x="17616" y="11709"/>
                  <a:pt x="17574" y="11716"/>
                </a:cubicBezTo>
                <a:cubicBezTo>
                  <a:pt x="17529" y="11724"/>
                  <a:pt x="17476" y="11716"/>
                  <a:pt x="17431" y="11716"/>
                </a:cubicBezTo>
                <a:cubicBezTo>
                  <a:pt x="17431" y="11653"/>
                  <a:pt x="17442" y="11604"/>
                  <a:pt x="17455" y="11573"/>
                </a:cubicBezTo>
                <a:cubicBezTo>
                  <a:pt x="17469" y="11539"/>
                  <a:pt x="17472" y="11543"/>
                  <a:pt x="17502" y="11525"/>
                </a:cubicBezTo>
                <a:cubicBezTo>
                  <a:pt x="17532" y="11507"/>
                  <a:pt x="17561" y="11508"/>
                  <a:pt x="17597" y="11501"/>
                </a:cubicBezTo>
                <a:cubicBezTo>
                  <a:pt x="17621" y="11501"/>
                  <a:pt x="17629" y="11501"/>
                  <a:pt x="17645" y="11501"/>
                </a:cubicBezTo>
                <a:cubicBezTo>
                  <a:pt x="17643" y="11501"/>
                  <a:pt x="17621" y="11503"/>
                  <a:pt x="17597" y="11525"/>
                </a:cubicBezTo>
                <a:cubicBezTo>
                  <a:pt x="17574" y="11525"/>
                  <a:pt x="17566" y="11525"/>
                  <a:pt x="17574" y="11549"/>
                </a:cubicBezTo>
                <a:cubicBezTo>
                  <a:pt x="17621" y="11545"/>
                  <a:pt x="17670" y="11484"/>
                  <a:pt x="17693" y="11525"/>
                </a:cubicBezTo>
                <a:cubicBezTo>
                  <a:pt x="17698" y="11534"/>
                  <a:pt x="17672" y="11568"/>
                  <a:pt x="17669" y="11597"/>
                </a:cubicBezTo>
                <a:cubicBezTo>
                  <a:pt x="17664" y="11654"/>
                  <a:pt x="17689" y="11698"/>
                  <a:pt x="17693" y="11740"/>
                </a:cubicBezTo>
                <a:cubicBezTo>
                  <a:pt x="17699" y="11795"/>
                  <a:pt x="17711" y="11836"/>
                  <a:pt x="17717" y="11882"/>
                </a:cubicBezTo>
                <a:cubicBezTo>
                  <a:pt x="17748" y="12126"/>
                  <a:pt x="17786" y="12614"/>
                  <a:pt x="17693" y="12835"/>
                </a:cubicBezTo>
                <a:cubicBezTo>
                  <a:pt x="17663" y="12905"/>
                  <a:pt x="17644" y="12882"/>
                  <a:pt x="17597" y="12954"/>
                </a:cubicBezTo>
                <a:cubicBezTo>
                  <a:pt x="17575" y="12988"/>
                  <a:pt x="17547" y="13040"/>
                  <a:pt x="17526" y="13073"/>
                </a:cubicBezTo>
                <a:cubicBezTo>
                  <a:pt x="17505" y="13106"/>
                  <a:pt x="17484" y="13164"/>
                  <a:pt x="17455" y="13192"/>
                </a:cubicBezTo>
                <a:cubicBezTo>
                  <a:pt x="17426" y="13220"/>
                  <a:pt x="17349" y="13260"/>
                  <a:pt x="17336" y="13287"/>
                </a:cubicBezTo>
                <a:cubicBezTo>
                  <a:pt x="17336" y="13303"/>
                  <a:pt x="17336" y="13319"/>
                  <a:pt x="17336" y="13335"/>
                </a:cubicBezTo>
                <a:cubicBezTo>
                  <a:pt x="17294" y="13374"/>
                  <a:pt x="17221" y="13438"/>
                  <a:pt x="17169" y="13478"/>
                </a:cubicBezTo>
                <a:cubicBezTo>
                  <a:pt x="17131" y="13507"/>
                  <a:pt x="17094" y="13540"/>
                  <a:pt x="17050" y="13549"/>
                </a:cubicBezTo>
                <a:cubicBezTo>
                  <a:pt x="16994" y="13560"/>
                  <a:pt x="16931" y="13548"/>
                  <a:pt x="16907" y="13526"/>
                </a:cubicBezTo>
                <a:cubicBezTo>
                  <a:pt x="16884" y="13504"/>
                  <a:pt x="16874" y="13485"/>
                  <a:pt x="16859" y="13454"/>
                </a:cubicBezTo>
                <a:cubicBezTo>
                  <a:pt x="16843" y="13423"/>
                  <a:pt x="16830" y="13428"/>
                  <a:pt x="16812" y="13406"/>
                </a:cubicBezTo>
                <a:cubicBezTo>
                  <a:pt x="16801" y="13393"/>
                  <a:pt x="16801" y="13347"/>
                  <a:pt x="16788" y="13335"/>
                </a:cubicBezTo>
                <a:cubicBezTo>
                  <a:pt x="16772" y="13321"/>
                  <a:pt x="16724" y="13300"/>
                  <a:pt x="16716" y="13287"/>
                </a:cubicBezTo>
                <a:cubicBezTo>
                  <a:pt x="16700" y="13263"/>
                  <a:pt x="16704" y="13238"/>
                  <a:pt x="16693" y="13216"/>
                </a:cubicBezTo>
                <a:cubicBezTo>
                  <a:pt x="16676" y="13182"/>
                  <a:pt x="16674" y="13189"/>
                  <a:pt x="16645" y="13168"/>
                </a:cubicBezTo>
                <a:cubicBezTo>
                  <a:pt x="16642" y="13174"/>
                  <a:pt x="16602" y="13215"/>
                  <a:pt x="16597" y="13240"/>
                </a:cubicBezTo>
                <a:cubicBezTo>
                  <a:pt x="16581" y="13326"/>
                  <a:pt x="16601" y="13423"/>
                  <a:pt x="16621" y="13502"/>
                </a:cubicBezTo>
                <a:cubicBezTo>
                  <a:pt x="16633" y="13549"/>
                  <a:pt x="16639" y="13596"/>
                  <a:pt x="16645" y="13645"/>
                </a:cubicBezTo>
                <a:cubicBezTo>
                  <a:pt x="16657" y="13745"/>
                  <a:pt x="16645" y="13854"/>
                  <a:pt x="16645" y="13954"/>
                </a:cubicBezTo>
                <a:cubicBezTo>
                  <a:pt x="16648" y="13922"/>
                  <a:pt x="16665" y="13914"/>
                  <a:pt x="16669" y="13883"/>
                </a:cubicBezTo>
                <a:cubicBezTo>
                  <a:pt x="16676" y="13832"/>
                  <a:pt x="16681" y="13811"/>
                  <a:pt x="16693" y="13787"/>
                </a:cubicBezTo>
                <a:cubicBezTo>
                  <a:pt x="16708" y="13757"/>
                  <a:pt x="16731" y="13730"/>
                  <a:pt x="16740" y="13716"/>
                </a:cubicBezTo>
                <a:cubicBezTo>
                  <a:pt x="16758" y="13688"/>
                  <a:pt x="16746" y="13668"/>
                  <a:pt x="16764" y="13645"/>
                </a:cubicBezTo>
                <a:cubicBezTo>
                  <a:pt x="16786" y="13616"/>
                  <a:pt x="16812" y="13577"/>
                  <a:pt x="16835" y="13573"/>
                </a:cubicBezTo>
                <a:cubicBezTo>
                  <a:pt x="16859" y="13569"/>
                  <a:pt x="16859" y="13594"/>
                  <a:pt x="16883" y="13597"/>
                </a:cubicBezTo>
              </a:path>
              <a:path w="3477" h="4168">
                <a:moveTo>
                  <a:pt x="16693" y="13573"/>
                </a:moveTo>
                <a:cubicBezTo>
                  <a:pt x="16693" y="13525"/>
                  <a:pt x="16693" y="13478"/>
                  <a:pt x="16693" y="13430"/>
                </a:cubicBezTo>
                <a:cubicBezTo>
                  <a:pt x="16693" y="13483"/>
                  <a:pt x="16692" y="13506"/>
                  <a:pt x="16716" y="13549"/>
                </a:cubicBezTo>
                <a:cubicBezTo>
                  <a:pt x="16742" y="13595"/>
                  <a:pt x="16765" y="13649"/>
                  <a:pt x="16788" y="13692"/>
                </a:cubicBezTo>
                <a:cubicBezTo>
                  <a:pt x="16813" y="13738"/>
                  <a:pt x="16851" y="13799"/>
                  <a:pt x="16883" y="13835"/>
                </a:cubicBezTo>
                <a:cubicBezTo>
                  <a:pt x="16891" y="13843"/>
                  <a:pt x="16899" y="13851"/>
                  <a:pt x="16907" y="13859"/>
                </a:cubicBezTo>
              </a:path>
              <a:path w="3477" h="4168">
                <a:moveTo>
                  <a:pt x="16740" y="13502"/>
                </a:moveTo>
                <a:cubicBezTo>
                  <a:pt x="16740" y="13526"/>
                  <a:pt x="16740" y="13549"/>
                  <a:pt x="16740" y="13573"/>
                </a:cubicBezTo>
                <a:cubicBezTo>
                  <a:pt x="16790" y="13573"/>
                  <a:pt x="16788" y="13576"/>
                  <a:pt x="16788" y="13526"/>
                </a:cubicBezTo>
                <a:cubicBezTo>
                  <a:pt x="16754" y="13515"/>
                  <a:pt x="16764" y="13519"/>
                  <a:pt x="16764" y="13478"/>
                </a:cubicBezTo>
                <a:cubicBezTo>
                  <a:pt x="16726" y="13465"/>
                  <a:pt x="16754" y="13467"/>
                  <a:pt x="16716" y="13454"/>
                </a:cubicBezTo>
                <a:cubicBezTo>
                  <a:pt x="16705" y="13418"/>
                  <a:pt x="16693" y="13433"/>
                  <a:pt x="16693" y="13383"/>
                </a:cubicBezTo>
              </a:path>
              <a:path w="3477" h="4168">
                <a:moveTo>
                  <a:pt x="16669" y="13264"/>
                </a:moveTo>
                <a:cubicBezTo>
                  <a:pt x="16669" y="13351"/>
                  <a:pt x="16669" y="13439"/>
                  <a:pt x="16669" y="13526"/>
                </a:cubicBezTo>
                <a:cubicBezTo>
                  <a:pt x="16669" y="13456"/>
                  <a:pt x="16648" y="13507"/>
                  <a:pt x="16621" y="13454"/>
                </a:cubicBezTo>
                <a:cubicBezTo>
                  <a:pt x="16603" y="13419"/>
                  <a:pt x="16577" y="13395"/>
                  <a:pt x="16550" y="13359"/>
                </a:cubicBezTo>
                <a:cubicBezTo>
                  <a:pt x="16562" y="13323"/>
                  <a:pt x="16578" y="13335"/>
                  <a:pt x="16621" y="13335"/>
                </a:cubicBezTo>
                <a:cubicBezTo>
                  <a:pt x="16708" y="13335"/>
                  <a:pt x="16796" y="13335"/>
                  <a:pt x="16883" y="13335"/>
                </a:cubicBezTo>
                <a:cubicBezTo>
                  <a:pt x="16883" y="13417"/>
                  <a:pt x="16878" y="13474"/>
                  <a:pt x="16859" y="13549"/>
                </a:cubicBezTo>
                <a:cubicBezTo>
                  <a:pt x="16847" y="13597"/>
                  <a:pt x="16821" y="13649"/>
                  <a:pt x="16812" y="13668"/>
                </a:cubicBezTo>
                <a:cubicBezTo>
                  <a:pt x="16812" y="13692"/>
                  <a:pt x="16812" y="13700"/>
                  <a:pt x="16812" y="13716"/>
                </a:cubicBezTo>
                <a:cubicBezTo>
                  <a:pt x="16800" y="13667"/>
                  <a:pt x="16757" y="13670"/>
                  <a:pt x="16740" y="13645"/>
                </a:cubicBezTo>
                <a:cubicBezTo>
                  <a:pt x="16718" y="13613"/>
                  <a:pt x="16718" y="13592"/>
                  <a:pt x="16693" y="13573"/>
                </a:cubicBezTo>
                <a:cubicBezTo>
                  <a:pt x="16684" y="13566"/>
                  <a:pt x="16621" y="13502"/>
                  <a:pt x="16621" y="13502"/>
                </a:cubicBezTo>
                <a:cubicBezTo>
                  <a:pt x="16616" y="13494"/>
                  <a:pt x="16583" y="13436"/>
                  <a:pt x="16574" y="13430"/>
                </a:cubicBezTo>
                <a:cubicBezTo>
                  <a:pt x="16546" y="13411"/>
                  <a:pt x="16550" y="13429"/>
                  <a:pt x="16550" y="13383"/>
                </a:cubicBezTo>
                <a:cubicBezTo>
                  <a:pt x="16588" y="13374"/>
                  <a:pt x="16602" y="13359"/>
                  <a:pt x="16645" y="13359"/>
                </a:cubicBezTo>
                <a:cubicBezTo>
                  <a:pt x="16748" y="13359"/>
                  <a:pt x="16852" y="13359"/>
                  <a:pt x="16955" y="13359"/>
                </a:cubicBezTo>
                <a:cubicBezTo>
                  <a:pt x="16946" y="13394"/>
                  <a:pt x="16929" y="13444"/>
                  <a:pt x="16907" y="13478"/>
                </a:cubicBezTo>
                <a:cubicBezTo>
                  <a:pt x="16882" y="13515"/>
                  <a:pt x="16883" y="13593"/>
                  <a:pt x="16859" y="13621"/>
                </a:cubicBezTo>
                <a:cubicBezTo>
                  <a:pt x="16847" y="13635"/>
                  <a:pt x="16823" y="13658"/>
                  <a:pt x="16812" y="13692"/>
                </a:cubicBezTo>
                <a:cubicBezTo>
                  <a:pt x="16803" y="13719"/>
                  <a:pt x="16795" y="13736"/>
                  <a:pt x="16788" y="13764"/>
                </a:cubicBezTo>
                <a:cubicBezTo>
                  <a:pt x="16747" y="13764"/>
                  <a:pt x="16730" y="13759"/>
                  <a:pt x="16716" y="13716"/>
                </a:cubicBezTo>
                <a:cubicBezTo>
                  <a:pt x="16704" y="13681"/>
                  <a:pt x="16693" y="13662"/>
                  <a:pt x="16693" y="13621"/>
                </a:cubicBezTo>
                <a:cubicBezTo>
                  <a:pt x="16693" y="13576"/>
                  <a:pt x="16674" y="13459"/>
                  <a:pt x="16716" y="13454"/>
                </a:cubicBezTo>
                <a:cubicBezTo>
                  <a:pt x="16766" y="13448"/>
                  <a:pt x="16764" y="13457"/>
                  <a:pt x="16764" y="13502"/>
                </a:cubicBezTo>
                <a:cubicBezTo>
                  <a:pt x="16764" y="13526"/>
                  <a:pt x="16764" y="13533"/>
                  <a:pt x="16764" y="13549"/>
                </a:cubicBezTo>
                <a:cubicBezTo>
                  <a:pt x="16764" y="13573"/>
                  <a:pt x="16764" y="13581"/>
                  <a:pt x="16764" y="13549"/>
                </a:cubicBezTo>
                <a:cubicBezTo>
                  <a:pt x="16764" y="13524"/>
                  <a:pt x="16769" y="13334"/>
                  <a:pt x="16788" y="13359"/>
                </a:cubicBezTo>
                <a:cubicBezTo>
                  <a:pt x="16795" y="13368"/>
                  <a:pt x="16788" y="13418"/>
                  <a:pt x="16788" y="134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could make Sushi 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他会做寿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86" name="Content Placeholder 3" descr="sushi.jpg"/>
          <p:cNvPicPr/>
          <p:nvPr/>
        </p:nvPicPr>
        <p:blipFill>
          <a:blip r:embed="rId1"/>
          <a:stretch/>
        </p:blipFill>
        <p:spPr>
          <a:xfrm>
            <a:off x="2666880" y="2563920"/>
            <a:ext cx="3810240" cy="3133440"/>
          </a:xfrm>
          <a:prstGeom prst="rect">
            <a:avLst/>
          </a:prstGeom>
          <a:ln w="0">
            <a:noFill/>
          </a:ln>
        </p:spPr>
      </p:pic>
      <p:pic>
        <p:nvPicPr>
          <p:cNvPr id="187" name="Recorded Sound" descr=""/>
          <p:cNvPicPr/>
          <p:nvPr/>
        </p:nvPicPr>
        <p:blipFill>
          <a:blip r:embed="rId2"/>
          <a:stretch/>
        </p:blipFill>
        <p:spPr>
          <a:xfrm>
            <a:off x="-8380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aruchan loved sushi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，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maruchan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爱吃寿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89" name="Content Placeholder 3" descr="tiger eating.jpg"/>
          <p:cNvPicPr/>
          <p:nvPr/>
        </p:nvPicPr>
        <p:blipFill>
          <a:blip r:embed="rId1"/>
          <a:stretch/>
        </p:blipFill>
        <p:spPr>
          <a:xfrm>
            <a:off x="2209680" y="2133720"/>
            <a:ext cx="3048120" cy="3686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sushi.jpg"/>
          <p:cNvPicPr/>
          <p:nvPr/>
        </p:nvPicPr>
        <p:blipFill>
          <a:blip r:embed="rId2"/>
          <a:stretch/>
        </p:blipFill>
        <p:spPr>
          <a:xfrm>
            <a:off x="4419720" y="4343400"/>
            <a:ext cx="1447560" cy="1190520"/>
          </a:xfrm>
          <a:prstGeom prst="rect">
            <a:avLst/>
          </a:prstGeom>
          <a:ln w="0">
            <a:noFill/>
          </a:ln>
        </p:spPr>
      </p:pic>
      <p:pic>
        <p:nvPicPr>
          <p:cNvPr id="191" name="Recorded Sound" descr=""/>
          <p:cNvPicPr/>
          <p:nvPr/>
        </p:nvPicPr>
        <p:blipFill>
          <a:blip r:embed="rId3"/>
          <a:stretch/>
        </p:blipFill>
        <p:spPr>
          <a:xfrm>
            <a:off x="-129528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 made the best</a:t>
            </a: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bob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做的最棒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93" name="Content Placeholder 3" descr="rock.jpg"/>
          <p:cNvPicPr/>
          <p:nvPr/>
        </p:nvPicPr>
        <p:blipFill>
          <a:blip r:embed="rId1"/>
          <a:stretch/>
        </p:blipFill>
        <p:spPr>
          <a:xfrm>
            <a:off x="1219320" y="2971800"/>
            <a:ext cx="393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ushi.jpg"/>
          <p:cNvPicPr/>
          <p:nvPr/>
        </p:nvPicPr>
        <p:blipFill>
          <a:blip r:embed="rId2"/>
          <a:stretch/>
        </p:blipFill>
        <p:spPr>
          <a:xfrm>
            <a:off x="4648320" y="4268880"/>
            <a:ext cx="1676160" cy="1379520"/>
          </a:xfrm>
          <a:prstGeom prst="rect">
            <a:avLst/>
          </a:prstGeom>
          <a:ln w="0">
            <a:noFill/>
          </a:ln>
        </p:spPr>
      </p:pic>
      <p:pic>
        <p:nvPicPr>
          <p:cNvPr id="195" name="Recorded Sound" descr=""/>
          <p:cNvPicPr/>
          <p:nvPr/>
        </p:nvPicPr>
        <p:blipFill>
          <a:blip r:embed="rId3"/>
          <a:stretch/>
        </p:blipFill>
        <p:spPr>
          <a:xfrm>
            <a:off x="-838080" y="3352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Ink 13"/>
          <p:cNvSpPr/>
          <p:nvPr/>
        </p:nvSpPr>
        <p:spPr>
          <a:xfrm>
            <a:off x="3857760" y="3600360"/>
            <a:ext cx="1706400" cy="1766880"/>
          </a:xfrm>
          <a:custGeom>
            <a:avLst/>
            <a:gdLst/>
            <a:ahLst/>
            <a:rect l="l" t="t" r="r" b="b"/>
            <a:pathLst>
              <a:path w="4739" h="4907">
                <a:moveTo>
                  <a:pt x="15454" y="11382"/>
                </a:moveTo>
                <a:cubicBezTo>
                  <a:pt x="15422" y="11327"/>
                  <a:pt x="15398" y="11276"/>
                  <a:pt x="15359" y="11216"/>
                </a:cubicBezTo>
                <a:cubicBezTo>
                  <a:pt x="15305" y="11134"/>
                  <a:pt x="15272" y="11047"/>
                  <a:pt x="15240" y="10954"/>
                </a:cubicBezTo>
                <a:cubicBezTo>
                  <a:pt x="15208" y="10861"/>
                  <a:pt x="15205" y="10777"/>
                  <a:pt x="15169" y="10692"/>
                </a:cubicBezTo>
                <a:cubicBezTo>
                  <a:pt x="15136" y="10614"/>
                  <a:pt x="15108" y="10561"/>
                  <a:pt x="15073" y="10478"/>
                </a:cubicBezTo>
                <a:cubicBezTo>
                  <a:pt x="15045" y="10411"/>
                  <a:pt x="15045" y="10349"/>
                  <a:pt x="15002" y="10287"/>
                </a:cubicBezTo>
                <a:cubicBezTo>
                  <a:pt x="14964" y="10232"/>
                  <a:pt x="14978" y="10157"/>
                  <a:pt x="14954" y="10097"/>
                </a:cubicBezTo>
                <a:cubicBezTo>
                  <a:pt x="14941" y="10064"/>
                  <a:pt x="14925" y="10033"/>
                  <a:pt x="14907" y="10001"/>
                </a:cubicBezTo>
              </a:path>
              <a:path w="4739" h="4907">
                <a:moveTo>
                  <a:pt x="14478" y="11501"/>
                </a:moveTo>
                <a:cubicBezTo>
                  <a:pt x="14470" y="11501"/>
                  <a:pt x="14462" y="11501"/>
                  <a:pt x="14454" y="11501"/>
                </a:cubicBezTo>
                <a:cubicBezTo>
                  <a:pt x="14445" y="11493"/>
                  <a:pt x="14394" y="11455"/>
                  <a:pt x="14383" y="11430"/>
                </a:cubicBezTo>
                <a:cubicBezTo>
                  <a:pt x="14383" y="11422"/>
                  <a:pt x="14383" y="11414"/>
                  <a:pt x="14383" y="11406"/>
                </a:cubicBezTo>
                <a:cubicBezTo>
                  <a:pt x="14357" y="11393"/>
                  <a:pt x="14315" y="11368"/>
                  <a:pt x="14288" y="11359"/>
                </a:cubicBezTo>
                <a:cubicBezTo>
                  <a:pt x="14249" y="11346"/>
                  <a:pt x="14207" y="11321"/>
                  <a:pt x="14192" y="11311"/>
                </a:cubicBezTo>
                <a:cubicBezTo>
                  <a:pt x="14160" y="11295"/>
                  <a:pt x="14104" y="11281"/>
                  <a:pt x="14073" y="11263"/>
                </a:cubicBezTo>
                <a:cubicBezTo>
                  <a:pt x="14051" y="11242"/>
                  <a:pt x="14047" y="11235"/>
                  <a:pt x="14026" y="11240"/>
                </a:cubicBezTo>
                <a:cubicBezTo>
                  <a:pt x="14012" y="11229"/>
                  <a:pt x="13966" y="11178"/>
                  <a:pt x="13930" y="11168"/>
                </a:cubicBezTo>
                <a:cubicBezTo>
                  <a:pt x="13881" y="11155"/>
                  <a:pt x="13880" y="11149"/>
                  <a:pt x="13835" y="11120"/>
                </a:cubicBezTo>
                <a:cubicBezTo>
                  <a:pt x="13781" y="11086"/>
                  <a:pt x="13719" y="11064"/>
                  <a:pt x="13668" y="11025"/>
                </a:cubicBezTo>
                <a:cubicBezTo>
                  <a:pt x="13623" y="10991"/>
                  <a:pt x="13538" y="10945"/>
                  <a:pt x="13502" y="10906"/>
                </a:cubicBezTo>
                <a:cubicBezTo>
                  <a:pt x="13458" y="10859"/>
                  <a:pt x="13456" y="10866"/>
                  <a:pt x="13406" y="10835"/>
                </a:cubicBezTo>
                <a:cubicBezTo>
                  <a:pt x="13376" y="10794"/>
                  <a:pt x="13366" y="10776"/>
                  <a:pt x="13311" y="10739"/>
                </a:cubicBezTo>
                <a:cubicBezTo>
                  <a:pt x="13274" y="10715"/>
                  <a:pt x="13265" y="10703"/>
                  <a:pt x="13240" y="10668"/>
                </a:cubicBezTo>
                <a:cubicBezTo>
                  <a:pt x="13180" y="10651"/>
                  <a:pt x="13214" y="10666"/>
                  <a:pt x="13168" y="10620"/>
                </a:cubicBezTo>
              </a:path>
              <a:path w="4739" h="4907">
                <a:moveTo>
                  <a:pt x="13216" y="11978"/>
                </a:moveTo>
                <a:cubicBezTo>
                  <a:pt x="13055" y="11978"/>
                  <a:pt x="12860" y="12002"/>
                  <a:pt x="12716" y="11954"/>
                </a:cubicBezTo>
                <a:cubicBezTo>
                  <a:pt x="12634" y="11927"/>
                  <a:pt x="12523" y="11991"/>
                  <a:pt x="12454" y="11930"/>
                </a:cubicBezTo>
                <a:cubicBezTo>
                  <a:pt x="12394" y="11877"/>
                  <a:pt x="12328" y="11807"/>
                  <a:pt x="12263" y="11763"/>
                </a:cubicBezTo>
                <a:cubicBezTo>
                  <a:pt x="12218" y="11732"/>
                  <a:pt x="12177" y="11694"/>
                  <a:pt x="12144" y="11668"/>
                </a:cubicBezTo>
                <a:cubicBezTo>
                  <a:pt x="12118" y="11640"/>
                  <a:pt x="12105" y="11632"/>
                  <a:pt x="12073" y="11644"/>
                </a:cubicBezTo>
                <a:cubicBezTo>
                  <a:pt x="12051" y="11628"/>
                  <a:pt x="12073" y="11621"/>
                  <a:pt x="12025" y="11621"/>
                </a:cubicBezTo>
              </a:path>
              <a:path w="4739" h="4907">
                <a:moveTo>
                  <a:pt x="12906" y="13954"/>
                </a:moveTo>
                <a:cubicBezTo>
                  <a:pt x="12850" y="13954"/>
                  <a:pt x="12808" y="13971"/>
                  <a:pt x="12764" y="13978"/>
                </a:cubicBezTo>
                <a:cubicBezTo>
                  <a:pt x="12740" y="13978"/>
                  <a:pt x="12732" y="13978"/>
                  <a:pt x="12716" y="13978"/>
                </a:cubicBezTo>
                <a:cubicBezTo>
                  <a:pt x="12701" y="13998"/>
                  <a:pt x="12707" y="14006"/>
                  <a:pt x="12692" y="14026"/>
                </a:cubicBezTo>
                <a:cubicBezTo>
                  <a:pt x="12653" y="14032"/>
                  <a:pt x="12660" y="14041"/>
                  <a:pt x="12644" y="14049"/>
                </a:cubicBezTo>
                <a:cubicBezTo>
                  <a:pt x="12617" y="14064"/>
                  <a:pt x="12612" y="14076"/>
                  <a:pt x="12573" y="14097"/>
                </a:cubicBezTo>
                <a:cubicBezTo>
                  <a:pt x="12521" y="14125"/>
                  <a:pt x="12509" y="14143"/>
                  <a:pt x="12454" y="14168"/>
                </a:cubicBezTo>
                <a:cubicBezTo>
                  <a:pt x="12437" y="14182"/>
                  <a:pt x="12396" y="14218"/>
                  <a:pt x="12359" y="14240"/>
                </a:cubicBezTo>
                <a:cubicBezTo>
                  <a:pt x="12333" y="14256"/>
                  <a:pt x="12283" y="14272"/>
                  <a:pt x="12263" y="14288"/>
                </a:cubicBezTo>
                <a:cubicBezTo>
                  <a:pt x="12222" y="14322"/>
                  <a:pt x="12190" y="14365"/>
                  <a:pt x="12144" y="14383"/>
                </a:cubicBezTo>
                <a:cubicBezTo>
                  <a:pt x="12136" y="14383"/>
                  <a:pt x="12129" y="14383"/>
                  <a:pt x="12121" y="14383"/>
                </a:cubicBezTo>
                <a:cubicBezTo>
                  <a:pt x="12092" y="14402"/>
                  <a:pt x="12078" y="14412"/>
                  <a:pt x="12025" y="14430"/>
                </a:cubicBezTo>
                <a:cubicBezTo>
                  <a:pt x="11995" y="14440"/>
                  <a:pt x="11959" y="14472"/>
                  <a:pt x="11930" y="14478"/>
                </a:cubicBezTo>
                <a:cubicBezTo>
                  <a:pt x="11914" y="14478"/>
                  <a:pt x="11898" y="14478"/>
                  <a:pt x="11882" y="14478"/>
                </a:cubicBezTo>
                <a:cubicBezTo>
                  <a:pt x="11848" y="14520"/>
                  <a:pt x="11863" y="14505"/>
                  <a:pt x="11811" y="14526"/>
                </a:cubicBezTo>
                <a:cubicBezTo>
                  <a:pt x="11780" y="14539"/>
                  <a:pt x="11773" y="14540"/>
                  <a:pt x="11740" y="14549"/>
                </a:cubicBezTo>
                <a:cubicBezTo>
                  <a:pt x="11717" y="14563"/>
                  <a:pt x="11719" y="14571"/>
                  <a:pt x="11668" y="14573"/>
                </a:cubicBezTo>
                <a:cubicBezTo>
                  <a:pt x="11603" y="14576"/>
                  <a:pt x="11563" y="14582"/>
                  <a:pt x="11501" y="14597"/>
                </a:cubicBezTo>
                <a:cubicBezTo>
                  <a:pt x="11493" y="14597"/>
                  <a:pt x="11486" y="14597"/>
                  <a:pt x="11478" y="14597"/>
                </a:cubicBezTo>
                <a:cubicBezTo>
                  <a:pt x="11466" y="14603"/>
                  <a:pt x="11413" y="14631"/>
                  <a:pt x="11382" y="14645"/>
                </a:cubicBezTo>
                <a:cubicBezTo>
                  <a:pt x="11349" y="14660"/>
                  <a:pt x="11323" y="14660"/>
                  <a:pt x="11287" y="14669"/>
                </a:cubicBezTo>
                <a:cubicBezTo>
                  <a:pt x="11252" y="14678"/>
                  <a:pt x="11225" y="14685"/>
                  <a:pt x="11192" y="14692"/>
                </a:cubicBezTo>
                <a:cubicBezTo>
                  <a:pt x="11184" y="14692"/>
                  <a:pt x="11176" y="14692"/>
                  <a:pt x="11168" y="14692"/>
                </a:cubicBezTo>
                <a:cubicBezTo>
                  <a:pt x="11151" y="14706"/>
                  <a:pt x="11129" y="14723"/>
                  <a:pt x="11097" y="14740"/>
                </a:cubicBezTo>
                <a:cubicBezTo>
                  <a:pt x="11057" y="14761"/>
                  <a:pt x="11069" y="14758"/>
                  <a:pt x="11025" y="14764"/>
                </a:cubicBezTo>
                <a:cubicBezTo>
                  <a:pt x="11009" y="14785"/>
                  <a:pt x="11013" y="14787"/>
                  <a:pt x="11001" y="14811"/>
                </a:cubicBezTo>
                <a:cubicBezTo>
                  <a:pt x="10966" y="14824"/>
                  <a:pt x="10947" y="14832"/>
                  <a:pt x="10906" y="14835"/>
                </a:cubicBezTo>
                <a:cubicBezTo>
                  <a:pt x="10898" y="14835"/>
                  <a:pt x="10890" y="14835"/>
                  <a:pt x="10882" y="14835"/>
                </a:cubicBezTo>
                <a:cubicBezTo>
                  <a:pt x="10868" y="14841"/>
                  <a:pt x="10854" y="14855"/>
                  <a:pt x="10811" y="14859"/>
                </a:cubicBezTo>
                <a:cubicBezTo>
                  <a:pt x="10803" y="14859"/>
                  <a:pt x="10795" y="14859"/>
                  <a:pt x="10787" y="14859"/>
                </a:cubicBezTo>
                <a:cubicBezTo>
                  <a:pt x="10762" y="14878"/>
                  <a:pt x="10788" y="14875"/>
                  <a:pt x="10739" y="14883"/>
                </a:cubicBezTo>
                <a:cubicBezTo>
                  <a:pt x="10739" y="14907"/>
                  <a:pt x="10739" y="14915"/>
                  <a:pt x="10716" y="14907"/>
                </a:cubicBezTo>
              </a:path>
              <a:path w="4739" h="4907">
                <a:moveTo>
                  <a:pt x="12740" y="13121"/>
                </a:moveTo>
                <a:cubicBezTo>
                  <a:pt x="12407" y="13121"/>
                  <a:pt x="12073" y="13121"/>
                  <a:pt x="11740" y="1312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nk 14"/>
          <p:cNvSpPr/>
          <p:nvPr/>
        </p:nvSpPr>
        <p:spPr>
          <a:xfrm>
            <a:off x="5889600" y="3693960"/>
            <a:ext cx="428760" cy="463680"/>
          </a:xfrm>
          <a:custGeom>
            <a:avLst/>
            <a:gdLst/>
            <a:ahLst/>
            <a:rect l="l" t="t" r="r" b="b"/>
            <a:pathLst>
              <a:path w="1192" h="1287">
                <a:moveTo>
                  <a:pt x="16359" y="11549"/>
                </a:moveTo>
                <a:cubicBezTo>
                  <a:pt x="16359" y="11541"/>
                  <a:pt x="16359" y="11533"/>
                  <a:pt x="16359" y="11525"/>
                </a:cubicBezTo>
                <a:cubicBezTo>
                  <a:pt x="16379" y="11509"/>
                  <a:pt x="16401" y="11495"/>
                  <a:pt x="16431" y="11478"/>
                </a:cubicBezTo>
                <a:cubicBezTo>
                  <a:pt x="16440" y="11455"/>
                  <a:pt x="16445" y="11429"/>
                  <a:pt x="16454" y="11406"/>
                </a:cubicBezTo>
                <a:cubicBezTo>
                  <a:pt x="16469" y="11391"/>
                  <a:pt x="16503" y="11368"/>
                  <a:pt x="16526" y="11335"/>
                </a:cubicBezTo>
                <a:cubicBezTo>
                  <a:pt x="16548" y="11313"/>
                  <a:pt x="16556" y="11309"/>
                  <a:pt x="16550" y="11287"/>
                </a:cubicBezTo>
                <a:cubicBezTo>
                  <a:pt x="16569" y="11272"/>
                  <a:pt x="16578" y="11278"/>
                  <a:pt x="16597" y="11263"/>
                </a:cubicBezTo>
                <a:cubicBezTo>
                  <a:pt x="16616" y="11234"/>
                  <a:pt x="16616" y="11235"/>
                  <a:pt x="16645" y="11216"/>
                </a:cubicBezTo>
                <a:cubicBezTo>
                  <a:pt x="16669" y="11182"/>
                  <a:pt x="16682" y="11168"/>
                  <a:pt x="16716" y="11144"/>
                </a:cubicBezTo>
                <a:cubicBezTo>
                  <a:pt x="16736" y="11090"/>
                  <a:pt x="16763" y="11055"/>
                  <a:pt x="16788" y="11001"/>
                </a:cubicBezTo>
                <a:cubicBezTo>
                  <a:pt x="16788" y="10993"/>
                  <a:pt x="16788" y="10986"/>
                  <a:pt x="16788" y="10978"/>
                </a:cubicBezTo>
                <a:cubicBezTo>
                  <a:pt x="16803" y="10963"/>
                  <a:pt x="16836" y="10939"/>
                  <a:pt x="16859" y="10906"/>
                </a:cubicBezTo>
                <a:cubicBezTo>
                  <a:pt x="16879" y="10878"/>
                  <a:pt x="16879" y="10878"/>
                  <a:pt x="16907" y="10859"/>
                </a:cubicBezTo>
                <a:cubicBezTo>
                  <a:pt x="16930" y="10821"/>
                  <a:pt x="16922" y="10850"/>
                  <a:pt x="16931" y="10787"/>
                </a:cubicBezTo>
                <a:cubicBezTo>
                  <a:pt x="16949" y="10769"/>
                  <a:pt x="16997" y="10736"/>
                  <a:pt x="17026" y="10716"/>
                </a:cubicBezTo>
                <a:cubicBezTo>
                  <a:pt x="17077" y="10681"/>
                  <a:pt x="17118" y="10632"/>
                  <a:pt x="17169" y="10597"/>
                </a:cubicBezTo>
                <a:cubicBezTo>
                  <a:pt x="17232" y="10554"/>
                  <a:pt x="17301" y="10504"/>
                  <a:pt x="17359" y="10454"/>
                </a:cubicBezTo>
                <a:cubicBezTo>
                  <a:pt x="17395" y="10424"/>
                  <a:pt x="17422" y="10410"/>
                  <a:pt x="17455" y="10382"/>
                </a:cubicBezTo>
                <a:cubicBezTo>
                  <a:pt x="17502" y="10343"/>
                  <a:pt x="17502" y="10325"/>
                  <a:pt x="17526" y="10287"/>
                </a:cubicBezTo>
                <a:cubicBezTo>
                  <a:pt x="17550" y="10287"/>
                  <a:pt x="17558" y="10287"/>
                  <a:pt x="17550" y="1026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Ink 15"/>
          <p:cNvSpPr/>
          <p:nvPr/>
        </p:nvSpPr>
        <p:spPr>
          <a:xfrm>
            <a:off x="6532560" y="4492800"/>
            <a:ext cx="453960" cy="93600"/>
          </a:xfrm>
          <a:custGeom>
            <a:avLst/>
            <a:gdLst/>
            <a:ahLst/>
            <a:rect l="l" t="t" r="r" b="b"/>
            <a:pathLst>
              <a:path w="1263" h="263">
                <a:moveTo>
                  <a:pt x="18145" y="12740"/>
                </a:moveTo>
                <a:cubicBezTo>
                  <a:pt x="18183" y="12730"/>
                  <a:pt x="18205" y="12704"/>
                  <a:pt x="18240" y="12692"/>
                </a:cubicBezTo>
                <a:cubicBezTo>
                  <a:pt x="18262" y="12684"/>
                  <a:pt x="18318" y="12672"/>
                  <a:pt x="18336" y="12668"/>
                </a:cubicBezTo>
                <a:cubicBezTo>
                  <a:pt x="18381" y="12658"/>
                  <a:pt x="18442" y="12652"/>
                  <a:pt x="18479" y="12644"/>
                </a:cubicBezTo>
                <a:cubicBezTo>
                  <a:pt x="18521" y="12635"/>
                  <a:pt x="18577" y="12644"/>
                  <a:pt x="18621" y="12644"/>
                </a:cubicBezTo>
                <a:cubicBezTo>
                  <a:pt x="18642" y="12613"/>
                  <a:pt x="18669" y="12621"/>
                  <a:pt x="18717" y="12621"/>
                </a:cubicBezTo>
                <a:cubicBezTo>
                  <a:pt x="18760" y="12621"/>
                  <a:pt x="18773" y="12600"/>
                  <a:pt x="18812" y="12597"/>
                </a:cubicBezTo>
                <a:cubicBezTo>
                  <a:pt x="18865" y="12593"/>
                  <a:pt x="18879" y="12573"/>
                  <a:pt x="18931" y="12573"/>
                </a:cubicBezTo>
                <a:cubicBezTo>
                  <a:pt x="18974" y="12573"/>
                  <a:pt x="19005" y="12549"/>
                  <a:pt x="19050" y="12549"/>
                </a:cubicBezTo>
                <a:cubicBezTo>
                  <a:pt x="19090" y="12549"/>
                  <a:pt x="19119" y="12525"/>
                  <a:pt x="19169" y="12525"/>
                </a:cubicBezTo>
                <a:cubicBezTo>
                  <a:pt x="19206" y="12525"/>
                  <a:pt x="19222" y="12502"/>
                  <a:pt x="19264" y="12502"/>
                </a:cubicBezTo>
                <a:cubicBezTo>
                  <a:pt x="19308" y="12502"/>
                  <a:pt x="19321" y="12482"/>
                  <a:pt x="19360" y="12478"/>
                </a:cubicBezTo>
                <a:cubicBezTo>
                  <a:pt x="19383" y="12478"/>
                  <a:pt x="19391" y="12478"/>
                  <a:pt x="19407" y="1247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nk 16"/>
          <p:cNvSpPr/>
          <p:nvPr/>
        </p:nvSpPr>
        <p:spPr>
          <a:xfrm>
            <a:off x="6429240" y="3951360"/>
            <a:ext cx="196920" cy="291960"/>
          </a:xfrm>
          <a:custGeom>
            <a:avLst/>
            <a:gdLst/>
            <a:ahLst/>
            <a:rect l="l" t="t" r="r" b="b"/>
            <a:pathLst>
              <a:path w="549" h="810">
                <a:moveTo>
                  <a:pt x="17859" y="11787"/>
                </a:moveTo>
                <a:cubicBezTo>
                  <a:pt x="17859" y="11739"/>
                  <a:pt x="17870" y="11731"/>
                  <a:pt x="17883" y="11692"/>
                </a:cubicBezTo>
                <a:cubicBezTo>
                  <a:pt x="17883" y="11684"/>
                  <a:pt x="17883" y="11676"/>
                  <a:pt x="17883" y="11668"/>
                </a:cubicBezTo>
                <a:cubicBezTo>
                  <a:pt x="17921" y="11655"/>
                  <a:pt x="17893" y="11657"/>
                  <a:pt x="17931" y="11644"/>
                </a:cubicBezTo>
                <a:cubicBezTo>
                  <a:pt x="17941" y="11606"/>
                  <a:pt x="17940" y="11607"/>
                  <a:pt x="17978" y="11597"/>
                </a:cubicBezTo>
                <a:cubicBezTo>
                  <a:pt x="17991" y="11559"/>
                  <a:pt x="17989" y="11587"/>
                  <a:pt x="18002" y="11549"/>
                </a:cubicBezTo>
                <a:cubicBezTo>
                  <a:pt x="18036" y="11538"/>
                  <a:pt x="18028" y="11512"/>
                  <a:pt x="18074" y="11501"/>
                </a:cubicBezTo>
                <a:cubicBezTo>
                  <a:pt x="18090" y="11456"/>
                  <a:pt x="18113" y="11479"/>
                  <a:pt x="18145" y="11430"/>
                </a:cubicBezTo>
                <a:cubicBezTo>
                  <a:pt x="18145" y="11422"/>
                  <a:pt x="18145" y="11414"/>
                  <a:pt x="18145" y="11406"/>
                </a:cubicBezTo>
                <a:cubicBezTo>
                  <a:pt x="18174" y="11396"/>
                  <a:pt x="18173" y="11369"/>
                  <a:pt x="18193" y="11335"/>
                </a:cubicBezTo>
                <a:cubicBezTo>
                  <a:pt x="18217" y="11292"/>
                  <a:pt x="18259" y="11286"/>
                  <a:pt x="18264" y="11240"/>
                </a:cubicBezTo>
                <a:cubicBezTo>
                  <a:pt x="18264" y="11232"/>
                  <a:pt x="18264" y="11224"/>
                  <a:pt x="18264" y="11216"/>
                </a:cubicBezTo>
                <a:cubicBezTo>
                  <a:pt x="18303" y="11197"/>
                  <a:pt x="18311" y="11156"/>
                  <a:pt x="18359" y="11144"/>
                </a:cubicBezTo>
                <a:cubicBezTo>
                  <a:pt x="18359" y="11103"/>
                  <a:pt x="18349" y="11108"/>
                  <a:pt x="18383" y="11097"/>
                </a:cubicBezTo>
                <a:cubicBezTo>
                  <a:pt x="18383" y="11073"/>
                  <a:pt x="18383" y="11049"/>
                  <a:pt x="18383" y="11025"/>
                </a:cubicBezTo>
                <a:cubicBezTo>
                  <a:pt x="18417" y="11014"/>
                  <a:pt x="18407" y="11019"/>
                  <a:pt x="18407" y="1097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t night, Maruchan went home.</a:t>
            </a:r>
            <a:br>
              <a:rPr sz="5000"/>
            </a:b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晚上的时候，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maruchan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回家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1" name="Content Placeholder 3" descr="maruchan.jpg"/>
          <p:cNvPicPr/>
          <p:nvPr/>
        </p:nvPicPr>
        <p:blipFill>
          <a:blip r:embed="rId1"/>
          <a:stretch/>
        </p:blipFill>
        <p:spPr>
          <a:xfrm>
            <a:off x="1192320" y="1935000"/>
            <a:ext cx="6759360" cy="4389480"/>
          </a:xfrm>
          <a:prstGeom prst="rect">
            <a:avLst/>
          </a:prstGeom>
          <a:ln w="0">
            <a:noFill/>
          </a:ln>
        </p:spPr>
      </p:pic>
      <p:pic>
        <p:nvPicPr>
          <p:cNvPr id="202" name="Recorded Sound" descr=""/>
          <p:cNvPicPr/>
          <p:nvPr/>
        </p:nvPicPr>
        <p:blipFill>
          <a:blip r:embed="rId2"/>
          <a:stretch/>
        </p:blipFill>
        <p:spPr>
          <a:xfrm>
            <a:off x="-12193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4" name="Content Placeholder 3" descr="rock.jpg"/>
          <p:cNvPicPr/>
          <p:nvPr/>
        </p:nvPicPr>
        <p:blipFill>
          <a:blip r:embed="rId1"/>
          <a:stretch/>
        </p:blipFill>
        <p:spPr>
          <a:xfrm>
            <a:off x="4114800" y="6114960"/>
            <a:ext cx="1238400" cy="743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night-sky.jpg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2057400" y="380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b watched the star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o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看星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Recorded Sound" descr=""/>
          <p:cNvPicPr/>
          <p:nvPr/>
        </p:nvPicPr>
        <p:blipFill>
          <a:blip r:embed="rId3"/>
          <a:stretch/>
        </p:blipFill>
        <p:spPr>
          <a:xfrm>
            <a:off x="-13716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 shooting star went by. 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流星飞过天空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9" name="Content Placeholder 3" descr="shooting_Star.jpg"/>
          <p:cNvPicPr/>
          <p:nvPr/>
        </p:nvPicPr>
        <p:blipFill>
          <a:blip r:embed="rId1"/>
          <a:stretch/>
        </p:blipFill>
        <p:spPr>
          <a:xfrm>
            <a:off x="2252520" y="2401920"/>
            <a:ext cx="4638960" cy="3457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rock.jpg"/>
          <p:cNvPicPr/>
          <p:nvPr/>
        </p:nvPicPr>
        <p:blipFill>
          <a:blip r:embed="rId2"/>
          <a:stretch/>
        </p:blipFill>
        <p:spPr>
          <a:xfrm>
            <a:off x="4800600" y="5029200"/>
            <a:ext cx="1238400" cy="743040"/>
          </a:xfrm>
          <a:prstGeom prst="rect">
            <a:avLst/>
          </a:prstGeom>
          <a:ln w="0">
            <a:noFill/>
          </a:ln>
        </p:spPr>
      </p:pic>
      <p:pic>
        <p:nvPicPr>
          <p:cNvPr id="211" name="Recorded Sound" descr=""/>
          <p:cNvPicPr/>
          <p:nvPr/>
        </p:nvPicPr>
        <p:blipFill>
          <a:blip r:embed="rId3"/>
          <a:stretch/>
        </p:blipFill>
        <p:spPr>
          <a:xfrm>
            <a:off x="-10666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 made a wish. 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Bob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做了一个许愿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3" name="Content Placeholder 3" descr="rock.jpg"/>
          <p:cNvPicPr/>
          <p:nvPr/>
        </p:nvPicPr>
        <p:blipFill>
          <a:blip r:embed="rId1"/>
          <a:stretch/>
        </p:blipFill>
        <p:spPr>
          <a:xfrm>
            <a:off x="4038480" y="3809880"/>
            <a:ext cx="3692520" cy="2214720"/>
          </a:xfrm>
          <a:prstGeom prst="rect">
            <a:avLst/>
          </a:prstGeom>
          <a:ln w="0">
            <a:noFill/>
          </a:ln>
        </p:spPr>
      </p:pic>
      <p:sp>
        <p:nvSpPr>
          <p:cNvPr id="214" name="5-Point Star 3"/>
          <p:cNvSpPr/>
          <p:nvPr/>
        </p:nvSpPr>
        <p:spPr>
          <a:xfrm>
            <a:off x="4343400" y="2209680"/>
            <a:ext cx="1066680" cy="99072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4"/>
          <p:cNvSpPr/>
          <p:nvPr/>
        </p:nvSpPr>
        <p:spPr>
          <a:xfrm>
            <a:off x="1527120" y="2639880"/>
            <a:ext cx="2884680" cy="226224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Recorded Sound" descr=""/>
          <p:cNvPicPr/>
          <p:nvPr/>
        </p:nvPicPr>
        <p:blipFill>
          <a:blip r:embed="rId2"/>
          <a:stretch/>
        </p:blipFill>
        <p:spPr>
          <a:xfrm>
            <a:off x="-914400" y="320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" name="Ink 2"/>
          <p:cNvSpPr/>
          <p:nvPr/>
        </p:nvSpPr>
        <p:spPr>
          <a:xfrm>
            <a:off x="1366920" y="1741320"/>
            <a:ext cx="3892320" cy="2232360"/>
          </a:xfrm>
          <a:custGeom>
            <a:avLst/>
            <a:gdLst/>
            <a:ahLst/>
            <a:rect l="l" t="t" r="r" b="b"/>
            <a:pathLst>
              <a:path w="10816" h="6202">
                <a:moveTo>
                  <a:pt x="14114" y="9128"/>
                </a:moveTo>
                <a:cubicBezTo>
                  <a:pt x="14081" y="9139"/>
                  <a:pt x="14084" y="9168"/>
                  <a:pt x="14064" y="9178"/>
                </a:cubicBezTo>
                <a:cubicBezTo>
                  <a:pt x="14029" y="9195"/>
                  <a:pt x="14039" y="9204"/>
                  <a:pt x="14039" y="9252"/>
                </a:cubicBezTo>
                <a:cubicBezTo>
                  <a:pt x="14039" y="9311"/>
                  <a:pt x="14038" y="9330"/>
                  <a:pt x="14064" y="9376"/>
                </a:cubicBezTo>
                <a:cubicBezTo>
                  <a:pt x="14096" y="9431"/>
                  <a:pt x="14123" y="9478"/>
                  <a:pt x="14188" y="9500"/>
                </a:cubicBezTo>
                <a:cubicBezTo>
                  <a:pt x="14219" y="9510"/>
                  <a:pt x="14258" y="9544"/>
                  <a:pt x="14288" y="9550"/>
                </a:cubicBezTo>
                <a:cubicBezTo>
                  <a:pt x="14339" y="9561"/>
                  <a:pt x="14411" y="9556"/>
                  <a:pt x="14461" y="9575"/>
                </a:cubicBezTo>
                <a:cubicBezTo>
                  <a:pt x="14504" y="9591"/>
                  <a:pt x="14533" y="9599"/>
                  <a:pt x="14585" y="9599"/>
                </a:cubicBezTo>
                <a:cubicBezTo>
                  <a:pt x="14593" y="9599"/>
                  <a:pt x="14602" y="9599"/>
                  <a:pt x="14610" y="9599"/>
                </a:cubicBezTo>
                <a:cubicBezTo>
                  <a:pt x="14610" y="9533"/>
                  <a:pt x="14621" y="9457"/>
                  <a:pt x="14585" y="9426"/>
                </a:cubicBezTo>
                <a:cubicBezTo>
                  <a:pt x="14548" y="9394"/>
                  <a:pt x="14520" y="9380"/>
                  <a:pt x="14486" y="9351"/>
                </a:cubicBezTo>
                <a:cubicBezTo>
                  <a:pt x="14466" y="9334"/>
                  <a:pt x="14415" y="9282"/>
                  <a:pt x="14412" y="9277"/>
                </a:cubicBezTo>
                <a:cubicBezTo>
                  <a:pt x="14404" y="9260"/>
                  <a:pt x="14391" y="9217"/>
                  <a:pt x="14362" y="9203"/>
                </a:cubicBezTo>
                <a:cubicBezTo>
                  <a:pt x="14336" y="9190"/>
                  <a:pt x="14329" y="9162"/>
                  <a:pt x="14312" y="9153"/>
                </a:cubicBezTo>
                <a:cubicBezTo>
                  <a:pt x="14306" y="9150"/>
                  <a:pt x="14242" y="9133"/>
                  <a:pt x="14238" y="9128"/>
                </a:cubicBezTo>
                <a:cubicBezTo>
                  <a:pt x="14220" y="9105"/>
                  <a:pt x="14210" y="9084"/>
                  <a:pt x="14163" y="9079"/>
                </a:cubicBezTo>
                <a:cubicBezTo>
                  <a:pt x="14115" y="9074"/>
                  <a:pt x="14063" y="9079"/>
                  <a:pt x="14015" y="9079"/>
                </a:cubicBezTo>
              </a:path>
              <a:path w="10816" h="6202">
                <a:moveTo>
                  <a:pt x="12774" y="8086"/>
                </a:moveTo>
                <a:cubicBezTo>
                  <a:pt x="12763" y="8121"/>
                  <a:pt x="12731" y="8111"/>
                  <a:pt x="12725" y="8161"/>
                </a:cubicBezTo>
                <a:cubicBezTo>
                  <a:pt x="12720" y="8202"/>
                  <a:pt x="12700" y="8214"/>
                  <a:pt x="12700" y="8260"/>
                </a:cubicBezTo>
                <a:cubicBezTo>
                  <a:pt x="12700" y="8356"/>
                  <a:pt x="12685" y="8399"/>
                  <a:pt x="12750" y="8458"/>
                </a:cubicBezTo>
                <a:cubicBezTo>
                  <a:pt x="12800" y="8504"/>
                  <a:pt x="12819" y="8540"/>
                  <a:pt x="12874" y="8582"/>
                </a:cubicBezTo>
                <a:cubicBezTo>
                  <a:pt x="12915" y="8613"/>
                  <a:pt x="12937" y="8612"/>
                  <a:pt x="12973" y="8632"/>
                </a:cubicBezTo>
                <a:cubicBezTo>
                  <a:pt x="13014" y="8655"/>
                  <a:pt x="13071" y="8669"/>
                  <a:pt x="13122" y="8682"/>
                </a:cubicBezTo>
                <a:cubicBezTo>
                  <a:pt x="13196" y="8701"/>
                  <a:pt x="13388" y="8699"/>
                  <a:pt x="13419" y="8657"/>
                </a:cubicBezTo>
                <a:cubicBezTo>
                  <a:pt x="13430" y="8642"/>
                  <a:pt x="13440" y="8561"/>
                  <a:pt x="13444" y="8558"/>
                </a:cubicBezTo>
                <a:cubicBezTo>
                  <a:pt x="13467" y="8540"/>
                  <a:pt x="13487" y="8511"/>
                  <a:pt x="13469" y="8458"/>
                </a:cubicBezTo>
                <a:cubicBezTo>
                  <a:pt x="13450" y="8401"/>
                  <a:pt x="13424" y="8370"/>
                  <a:pt x="13395" y="8334"/>
                </a:cubicBezTo>
                <a:cubicBezTo>
                  <a:pt x="13367" y="8299"/>
                  <a:pt x="13337" y="8282"/>
                  <a:pt x="13320" y="8260"/>
                </a:cubicBezTo>
                <a:cubicBezTo>
                  <a:pt x="13295" y="8227"/>
                  <a:pt x="13238" y="8198"/>
                  <a:pt x="13221" y="8161"/>
                </a:cubicBezTo>
                <a:cubicBezTo>
                  <a:pt x="13196" y="8106"/>
                  <a:pt x="13223" y="8131"/>
                  <a:pt x="13171" y="8086"/>
                </a:cubicBezTo>
                <a:cubicBezTo>
                  <a:pt x="13135" y="8055"/>
                  <a:pt x="13146" y="8028"/>
                  <a:pt x="13097" y="8012"/>
                </a:cubicBezTo>
                <a:cubicBezTo>
                  <a:pt x="13064" y="8001"/>
                  <a:pt x="13053" y="7968"/>
                  <a:pt x="12998" y="7962"/>
                </a:cubicBezTo>
                <a:cubicBezTo>
                  <a:pt x="12915" y="7954"/>
                  <a:pt x="12892" y="7971"/>
                  <a:pt x="12824" y="8012"/>
                </a:cubicBezTo>
                <a:cubicBezTo>
                  <a:pt x="12770" y="8039"/>
                  <a:pt x="12750" y="8050"/>
                  <a:pt x="12725" y="8086"/>
                </a:cubicBezTo>
              </a:path>
              <a:path w="10816" h="6202">
                <a:moveTo>
                  <a:pt x="10864" y="7590"/>
                </a:moveTo>
                <a:cubicBezTo>
                  <a:pt x="10813" y="7634"/>
                  <a:pt x="10813" y="7614"/>
                  <a:pt x="10790" y="7689"/>
                </a:cubicBezTo>
                <a:cubicBezTo>
                  <a:pt x="10773" y="7745"/>
                  <a:pt x="10744" y="7796"/>
                  <a:pt x="10740" y="7863"/>
                </a:cubicBezTo>
                <a:cubicBezTo>
                  <a:pt x="10735" y="7944"/>
                  <a:pt x="10739" y="8019"/>
                  <a:pt x="10765" y="8086"/>
                </a:cubicBezTo>
                <a:cubicBezTo>
                  <a:pt x="10786" y="8141"/>
                  <a:pt x="10843" y="8199"/>
                  <a:pt x="10889" y="8235"/>
                </a:cubicBezTo>
                <a:cubicBezTo>
                  <a:pt x="10949" y="8282"/>
                  <a:pt x="10993" y="8292"/>
                  <a:pt x="11063" y="8310"/>
                </a:cubicBezTo>
                <a:cubicBezTo>
                  <a:pt x="11164" y="8336"/>
                  <a:pt x="11249" y="8387"/>
                  <a:pt x="11336" y="8434"/>
                </a:cubicBezTo>
                <a:cubicBezTo>
                  <a:pt x="11395" y="8466"/>
                  <a:pt x="11448" y="8502"/>
                  <a:pt x="11509" y="8533"/>
                </a:cubicBezTo>
                <a:cubicBezTo>
                  <a:pt x="11552" y="8555"/>
                  <a:pt x="11580" y="8555"/>
                  <a:pt x="11633" y="8558"/>
                </a:cubicBezTo>
                <a:cubicBezTo>
                  <a:pt x="11696" y="8562"/>
                  <a:pt x="11678" y="8541"/>
                  <a:pt x="11708" y="8508"/>
                </a:cubicBezTo>
                <a:cubicBezTo>
                  <a:pt x="11719" y="8496"/>
                  <a:pt x="11785" y="8446"/>
                  <a:pt x="11807" y="8434"/>
                </a:cubicBezTo>
                <a:cubicBezTo>
                  <a:pt x="11851" y="8410"/>
                  <a:pt x="11904" y="8392"/>
                  <a:pt x="11931" y="8359"/>
                </a:cubicBezTo>
                <a:cubicBezTo>
                  <a:pt x="11950" y="8335"/>
                  <a:pt x="11954" y="8294"/>
                  <a:pt x="11956" y="8260"/>
                </a:cubicBezTo>
                <a:cubicBezTo>
                  <a:pt x="11958" y="8217"/>
                  <a:pt x="11952" y="8117"/>
                  <a:pt x="11931" y="8086"/>
                </a:cubicBezTo>
                <a:cubicBezTo>
                  <a:pt x="11889" y="8025"/>
                  <a:pt x="11843" y="7986"/>
                  <a:pt x="11807" y="7938"/>
                </a:cubicBezTo>
                <a:cubicBezTo>
                  <a:pt x="11773" y="7893"/>
                  <a:pt x="11739" y="7836"/>
                  <a:pt x="11708" y="7789"/>
                </a:cubicBezTo>
                <a:cubicBezTo>
                  <a:pt x="11684" y="7753"/>
                  <a:pt x="11658" y="7727"/>
                  <a:pt x="11633" y="7689"/>
                </a:cubicBezTo>
                <a:cubicBezTo>
                  <a:pt x="11604" y="7646"/>
                  <a:pt x="11602" y="7645"/>
                  <a:pt x="11559" y="7615"/>
                </a:cubicBezTo>
                <a:cubicBezTo>
                  <a:pt x="11512" y="7583"/>
                  <a:pt x="11454" y="7551"/>
                  <a:pt x="11410" y="7516"/>
                </a:cubicBezTo>
                <a:cubicBezTo>
                  <a:pt x="11356" y="7473"/>
                  <a:pt x="11312" y="7450"/>
                  <a:pt x="11261" y="7417"/>
                </a:cubicBezTo>
                <a:cubicBezTo>
                  <a:pt x="11241" y="7404"/>
                  <a:pt x="11239" y="7382"/>
                  <a:pt x="11187" y="7392"/>
                </a:cubicBezTo>
                <a:cubicBezTo>
                  <a:pt x="11147" y="7399"/>
                  <a:pt x="11074" y="7402"/>
                  <a:pt x="11038" y="7417"/>
                </a:cubicBezTo>
                <a:cubicBezTo>
                  <a:pt x="10962" y="7449"/>
                  <a:pt x="10896" y="7466"/>
                  <a:pt x="10815" y="7491"/>
                </a:cubicBezTo>
              </a:path>
              <a:path w="10816" h="6202">
                <a:moveTo>
                  <a:pt x="7665" y="6201"/>
                </a:moveTo>
                <a:cubicBezTo>
                  <a:pt x="7597" y="6205"/>
                  <a:pt x="7470" y="6224"/>
                  <a:pt x="7441" y="6226"/>
                </a:cubicBezTo>
                <a:cubicBezTo>
                  <a:pt x="7350" y="6232"/>
                  <a:pt x="7322" y="6250"/>
                  <a:pt x="7243" y="6276"/>
                </a:cubicBezTo>
                <a:cubicBezTo>
                  <a:pt x="7152" y="6306"/>
                  <a:pt x="7104" y="6352"/>
                  <a:pt x="7020" y="6400"/>
                </a:cubicBezTo>
                <a:cubicBezTo>
                  <a:pt x="6922" y="6456"/>
                  <a:pt x="6822" y="6498"/>
                  <a:pt x="6722" y="6548"/>
                </a:cubicBezTo>
                <a:cubicBezTo>
                  <a:pt x="6630" y="6594"/>
                  <a:pt x="6594" y="6639"/>
                  <a:pt x="6524" y="6697"/>
                </a:cubicBezTo>
                <a:cubicBezTo>
                  <a:pt x="6461" y="6750"/>
                  <a:pt x="6439" y="6823"/>
                  <a:pt x="6400" y="6871"/>
                </a:cubicBezTo>
                <a:cubicBezTo>
                  <a:pt x="6342" y="6943"/>
                  <a:pt x="6263" y="7020"/>
                  <a:pt x="6226" y="7119"/>
                </a:cubicBezTo>
                <a:cubicBezTo>
                  <a:pt x="6192" y="7211"/>
                  <a:pt x="6202" y="7342"/>
                  <a:pt x="6201" y="7441"/>
                </a:cubicBezTo>
                <a:cubicBezTo>
                  <a:pt x="6198" y="7640"/>
                  <a:pt x="6174" y="7881"/>
                  <a:pt x="6226" y="8062"/>
                </a:cubicBezTo>
                <a:cubicBezTo>
                  <a:pt x="6258" y="8174"/>
                  <a:pt x="6327" y="8295"/>
                  <a:pt x="6375" y="8409"/>
                </a:cubicBezTo>
                <a:cubicBezTo>
                  <a:pt x="6471" y="8636"/>
                  <a:pt x="6547" y="8869"/>
                  <a:pt x="6623" y="9103"/>
                </a:cubicBezTo>
                <a:cubicBezTo>
                  <a:pt x="6666" y="9234"/>
                  <a:pt x="6663" y="9297"/>
                  <a:pt x="6672" y="9426"/>
                </a:cubicBezTo>
                <a:cubicBezTo>
                  <a:pt x="6698" y="9400"/>
                  <a:pt x="6665" y="9394"/>
                  <a:pt x="6697" y="9376"/>
                </a:cubicBezTo>
                <a:cubicBezTo>
                  <a:pt x="6786" y="9326"/>
                  <a:pt x="6897" y="9300"/>
                  <a:pt x="6995" y="9277"/>
                </a:cubicBezTo>
                <a:cubicBezTo>
                  <a:pt x="7090" y="9255"/>
                  <a:pt x="7152" y="9223"/>
                  <a:pt x="7243" y="9203"/>
                </a:cubicBezTo>
                <a:cubicBezTo>
                  <a:pt x="7346" y="9180"/>
                  <a:pt x="7453" y="9152"/>
                  <a:pt x="7541" y="9128"/>
                </a:cubicBezTo>
                <a:cubicBezTo>
                  <a:pt x="7620" y="9106"/>
                  <a:pt x="7686" y="9089"/>
                  <a:pt x="7764" y="9054"/>
                </a:cubicBezTo>
                <a:cubicBezTo>
                  <a:pt x="7797" y="9039"/>
                  <a:pt x="7813" y="9065"/>
                  <a:pt x="7813" y="9029"/>
                </a:cubicBezTo>
                <a:cubicBezTo>
                  <a:pt x="7789" y="9029"/>
                  <a:pt x="7780" y="9029"/>
                  <a:pt x="7764" y="9029"/>
                </a:cubicBezTo>
                <a:cubicBezTo>
                  <a:pt x="7794" y="9014"/>
                  <a:pt x="7760" y="9021"/>
                  <a:pt x="7789" y="9004"/>
                </a:cubicBezTo>
                <a:cubicBezTo>
                  <a:pt x="7842" y="8973"/>
                  <a:pt x="7934" y="8965"/>
                  <a:pt x="7987" y="8930"/>
                </a:cubicBezTo>
                <a:cubicBezTo>
                  <a:pt x="8043" y="8893"/>
                  <a:pt x="8075" y="8853"/>
                  <a:pt x="8136" y="8830"/>
                </a:cubicBezTo>
                <a:cubicBezTo>
                  <a:pt x="8146" y="8826"/>
                  <a:pt x="8198" y="8814"/>
                  <a:pt x="8235" y="8806"/>
                </a:cubicBezTo>
                <a:cubicBezTo>
                  <a:pt x="8286" y="8795"/>
                  <a:pt x="8334" y="8798"/>
                  <a:pt x="8384" y="8781"/>
                </a:cubicBezTo>
                <a:cubicBezTo>
                  <a:pt x="8460" y="8755"/>
                  <a:pt x="8570" y="8712"/>
                  <a:pt x="8632" y="8682"/>
                </a:cubicBezTo>
                <a:cubicBezTo>
                  <a:pt x="8724" y="8637"/>
                  <a:pt x="8796" y="8568"/>
                  <a:pt x="8855" y="8483"/>
                </a:cubicBezTo>
                <a:cubicBezTo>
                  <a:pt x="8915" y="8397"/>
                  <a:pt x="8942" y="8289"/>
                  <a:pt x="9004" y="8210"/>
                </a:cubicBezTo>
                <a:cubicBezTo>
                  <a:pt x="9057" y="8142"/>
                  <a:pt x="9136" y="8087"/>
                  <a:pt x="9203" y="8037"/>
                </a:cubicBezTo>
                <a:cubicBezTo>
                  <a:pt x="9256" y="7998"/>
                  <a:pt x="9276" y="7978"/>
                  <a:pt x="9327" y="7913"/>
                </a:cubicBezTo>
                <a:cubicBezTo>
                  <a:pt x="9377" y="7849"/>
                  <a:pt x="9455" y="7816"/>
                  <a:pt x="9500" y="7764"/>
                </a:cubicBezTo>
                <a:cubicBezTo>
                  <a:pt x="9557" y="7699"/>
                  <a:pt x="9652" y="7605"/>
                  <a:pt x="9674" y="7516"/>
                </a:cubicBezTo>
                <a:cubicBezTo>
                  <a:pt x="9723" y="7316"/>
                  <a:pt x="9653" y="7070"/>
                  <a:pt x="9649" y="6871"/>
                </a:cubicBezTo>
                <a:cubicBezTo>
                  <a:pt x="9648" y="6786"/>
                  <a:pt x="9687" y="6588"/>
                  <a:pt x="9624" y="6524"/>
                </a:cubicBezTo>
                <a:cubicBezTo>
                  <a:pt x="9572" y="6472"/>
                  <a:pt x="9552" y="6470"/>
                  <a:pt x="9475" y="6449"/>
                </a:cubicBezTo>
                <a:cubicBezTo>
                  <a:pt x="9393" y="6426"/>
                  <a:pt x="9311" y="6397"/>
                  <a:pt x="9227" y="6375"/>
                </a:cubicBezTo>
                <a:cubicBezTo>
                  <a:pt x="9143" y="6353"/>
                  <a:pt x="9066" y="6323"/>
                  <a:pt x="8979" y="6300"/>
                </a:cubicBezTo>
                <a:cubicBezTo>
                  <a:pt x="8881" y="6274"/>
                  <a:pt x="8799" y="6230"/>
                  <a:pt x="8706" y="6201"/>
                </a:cubicBezTo>
                <a:cubicBezTo>
                  <a:pt x="8644" y="6182"/>
                  <a:pt x="8525" y="6158"/>
                  <a:pt x="8458" y="6152"/>
                </a:cubicBezTo>
                <a:cubicBezTo>
                  <a:pt x="8283" y="6137"/>
                  <a:pt x="8104" y="6165"/>
                  <a:pt x="7938" y="6176"/>
                </a:cubicBezTo>
                <a:cubicBezTo>
                  <a:pt x="7791" y="6186"/>
                  <a:pt x="7639" y="6176"/>
                  <a:pt x="7491" y="6176"/>
                </a:cubicBezTo>
              </a:path>
              <a:path w="10816" h="6202">
                <a:moveTo>
                  <a:pt x="7045" y="8458"/>
                </a:moveTo>
                <a:cubicBezTo>
                  <a:pt x="7050" y="8415"/>
                  <a:pt x="7054" y="8374"/>
                  <a:pt x="7069" y="8334"/>
                </a:cubicBezTo>
                <a:cubicBezTo>
                  <a:pt x="7099" y="8256"/>
                  <a:pt x="7165" y="8151"/>
                  <a:pt x="7218" y="8086"/>
                </a:cubicBezTo>
                <a:cubicBezTo>
                  <a:pt x="7292" y="7995"/>
                  <a:pt x="7335" y="7892"/>
                  <a:pt x="7392" y="7789"/>
                </a:cubicBezTo>
                <a:cubicBezTo>
                  <a:pt x="7447" y="7689"/>
                  <a:pt x="7482" y="7592"/>
                  <a:pt x="7541" y="7491"/>
                </a:cubicBezTo>
                <a:cubicBezTo>
                  <a:pt x="7590" y="7407"/>
                  <a:pt x="7610" y="7303"/>
                  <a:pt x="7640" y="7218"/>
                </a:cubicBezTo>
                <a:cubicBezTo>
                  <a:pt x="7664" y="7150"/>
                  <a:pt x="7695" y="7081"/>
                  <a:pt x="7714" y="7020"/>
                </a:cubicBezTo>
                <a:cubicBezTo>
                  <a:pt x="7726" y="6983"/>
                  <a:pt x="7727" y="6938"/>
                  <a:pt x="7739" y="6896"/>
                </a:cubicBezTo>
                <a:cubicBezTo>
                  <a:pt x="7754" y="6842"/>
                  <a:pt x="7761" y="6826"/>
                  <a:pt x="7764" y="6772"/>
                </a:cubicBezTo>
                <a:cubicBezTo>
                  <a:pt x="7766" y="6739"/>
                  <a:pt x="7764" y="6705"/>
                  <a:pt x="7764" y="6672"/>
                </a:cubicBezTo>
                <a:cubicBezTo>
                  <a:pt x="7746" y="6733"/>
                  <a:pt x="7743" y="6744"/>
                  <a:pt x="7739" y="6821"/>
                </a:cubicBezTo>
                <a:cubicBezTo>
                  <a:pt x="7729" y="7025"/>
                  <a:pt x="7697" y="7301"/>
                  <a:pt x="7764" y="7491"/>
                </a:cubicBezTo>
                <a:cubicBezTo>
                  <a:pt x="7778" y="7531"/>
                  <a:pt x="7777" y="7571"/>
                  <a:pt x="7789" y="7615"/>
                </a:cubicBezTo>
                <a:cubicBezTo>
                  <a:pt x="7812" y="7700"/>
                  <a:pt x="7838" y="7743"/>
                  <a:pt x="7838" y="7838"/>
                </a:cubicBezTo>
                <a:cubicBezTo>
                  <a:pt x="7838" y="7959"/>
                  <a:pt x="7815" y="8156"/>
                  <a:pt x="7863" y="8235"/>
                </a:cubicBezTo>
                <a:cubicBezTo>
                  <a:pt x="7810" y="8220"/>
                  <a:pt x="7822" y="8210"/>
                  <a:pt x="7789" y="8186"/>
                </a:cubicBezTo>
                <a:cubicBezTo>
                  <a:pt x="7756" y="8162"/>
                  <a:pt x="7748" y="8138"/>
                  <a:pt x="7714" y="8111"/>
                </a:cubicBezTo>
                <a:cubicBezTo>
                  <a:pt x="7686" y="8088"/>
                  <a:pt x="7599" y="8030"/>
                  <a:pt x="7565" y="8012"/>
                </a:cubicBezTo>
                <a:cubicBezTo>
                  <a:pt x="7489" y="7972"/>
                  <a:pt x="7417" y="7935"/>
                  <a:pt x="7342" y="7888"/>
                </a:cubicBezTo>
                <a:cubicBezTo>
                  <a:pt x="7303" y="7864"/>
                  <a:pt x="7237" y="7814"/>
                  <a:pt x="7218" y="7789"/>
                </a:cubicBezTo>
                <a:cubicBezTo>
                  <a:pt x="7179" y="7738"/>
                  <a:pt x="7173" y="7743"/>
                  <a:pt x="7144" y="7714"/>
                </a:cubicBezTo>
                <a:cubicBezTo>
                  <a:pt x="7121" y="7691"/>
                  <a:pt x="7103" y="7697"/>
                  <a:pt x="7094" y="7665"/>
                </a:cubicBezTo>
                <a:cubicBezTo>
                  <a:pt x="7084" y="7629"/>
                  <a:pt x="7093" y="7609"/>
                  <a:pt x="7069" y="7590"/>
                </a:cubicBezTo>
                <a:cubicBezTo>
                  <a:pt x="7035" y="7564"/>
                  <a:pt x="7016" y="7560"/>
                  <a:pt x="6995" y="7541"/>
                </a:cubicBezTo>
                <a:cubicBezTo>
                  <a:pt x="6968" y="7517"/>
                  <a:pt x="6997" y="7523"/>
                  <a:pt x="6945" y="7516"/>
                </a:cubicBezTo>
                <a:cubicBezTo>
                  <a:pt x="6970" y="7491"/>
                  <a:pt x="6958" y="7456"/>
                  <a:pt x="7020" y="7441"/>
                </a:cubicBezTo>
                <a:cubicBezTo>
                  <a:pt x="7095" y="7423"/>
                  <a:pt x="7191" y="7401"/>
                  <a:pt x="7268" y="7392"/>
                </a:cubicBezTo>
                <a:cubicBezTo>
                  <a:pt x="7369" y="7380"/>
                  <a:pt x="7461" y="7367"/>
                  <a:pt x="7565" y="7367"/>
                </a:cubicBezTo>
                <a:cubicBezTo>
                  <a:pt x="7739" y="7367"/>
                  <a:pt x="8185" y="7275"/>
                  <a:pt x="8037" y="7367"/>
                </a:cubicBezTo>
                <a:cubicBezTo>
                  <a:pt x="8000" y="7390"/>
                  <a:pt x="7983" y="7388"/>
                  <a:pt x="7962" y="7417"/>
                </a:cubicBezTo>
                <a:cubicBezTo>
                  <a:pt x="7933" y="7458"/>
                  <a:pt x="7932" y="7465"/>
                  <a:pt x="7888" y="7491"/>
                </a:cubicBezTo>
                <a:cubicBezTo>
                  <a:pt x="7841" y="7519"/>
                  <a:pt x="7848" y="7525"/>
                  <a:pt x="7813" y="7565"/>
                </a:cubicBezTo>
                <a:cubicBezTo>
                  <a:pt x="7745" y="7642"/>
                  <a:pt x="7665" y="7699"/>
                  <a:pt x="7615" y="7789"/>
                </a:cubicBezTo>
                <a:cubicBezTo>
                  <a:pt x="7601" y="7813"/>
                  <a:pt x="7575" y="7832"/>
                  <a:pt x="7541" y="7863"/>
                </a:cubicBezTo>
                <a:cubicBezTo>
                  <a:pt x="7522" y="7881"/>
                  <a:pt x="7534" y="7919"/>
                  <a:pt x="7516" y="7938"/>
                </a:cubicBezTo>
                <a:cubicBezTo>
                  <a:pt x="7486" y="7971"/>
                  <a:pt x="7475" y="7983"/>
                  <a:pt x="7441" y="8012"/>
                </a:cubicBezTo>
                <a:cubicBezTo>
                  <a:pt x="7390" y="8055"/>
                  <a:pt x="7339" y="8096"/>
                  <a:pt x="7317" y="8161"/>
                </a:cubicBezTo>
                <a:cubicBezTo>
                  <a:pt x="7306" y="8193"/>
                  <a:pt x="7270" y="8227"/>
                  <a:pt x="7268" y="8235"/>
                </a:cubicBezTo>
                <a:cubicBezTo>
                  <a:pt x="7258" y="8271"/>
                  <a:pt x="7266" y="8292"/>
                  <a:pt x="7243" y="8310"/>
                </a:cubicBezTo>
                <a:cubicBezTo>
                  <a:pt x="7209" y="8336"/>
                  <a:pt x="7190" y="8340"/>
                  <a:pt x="7169" y="8359"/>
                </a:cubicBezTo>
                <a:cubicBezTo>
                  <a:pt x="7144" y="8381"/>
                  <a:pt x="7151" y="8400"/>
                  <a:pt x="7119" y="8409"/>
                </a:cubicBezTo>
                <a:cubicBezTo>
                  <a:pt x="7097" y="8415"/>
                  <a:pt x="7045" y="8417"/>
                  <a:pt x="7045" y="8434"/>
                </a:cubicBezTo>
                <a:cubicBezTo>
                  <a:pt x="7053" y="8434"/>
                  <a:pt x="7061" y="8434"/>
                  <a:pt x="7069" y="8434"/>
                </a:cubicBezTo>
              </a:path>
              <a:path w="10816" h="6202">
                <a:moveTo>
                  <a:pt x="6548" y="9947"/>
                </a:moveTo>
                <a:cubicBezTo>
                  <a:pt x="6541" y="9969"/>
                  <a:pt x="6539" y="9994"/>
                  <a:pt x="6524" y="10021"/>
                </a:cubicBezTo>
                <a:cubicBezTo>
                  <a:pt x="6487" y="10087"/>
                  <a:pt x="6456" y="10149"/>
                  <a:pt x="6424" y="10220"/>
                </a:cubicBezTo>
                <a:cubicBezTo>
                  <a:pt x="6371" y="10339"/>
                  <a:pt x="6306" y="10456"/>
                  <a:pt x="6251" y="10567"/>
                </a:cubicBezTo>
                <a:cubicBezTo>
                  <a:pt x="6206" y="10658"/>
                  <a:pt x="6185" y="10726"/>
                  <a:pt x="6152" y="10815"/>
                </a:cubicBezTo>
                <a:cubicBezTo>
                  <a:pt x="6141" y="10844"/>
                  <a:pt x="6095" y="10890"/>
                  <a:pt x="6077" y="10914"/>
                </a:cubicBezTo>
              </a:path>
              <a:path w="10816" h="6202">
                <a:moveTo>
                  <a:pt x="5631" y="8979"/>
                </a:moveTo>
                <a:cubicBezTo>
                  <a:pt x="5534" y="8979"/>
                  <a:pt x="5454" y="8984"/>
                  <a:pt x="5358" y="9004"/>
                </a:cubicBezTo>
                <a:cubicBezTo>
                  <a:pt x="5215" y="9034"/>
                  <a:pt x="5056" y="9043"/>
                  <a:pt x="4911" y="9054"/>
                </a:cubicBezTo>
                <a:cubicBezTo>
                  <a:pt x="4598" y="9078"/>
                  <a:pt x="4280" y="9045"/>
                  <a:pt x="3969" y="9029"/>
                </a:cubicBezTo>
                <a:cubicBezTo>
                  <a:pt x="3911" y="9029"/>
                  <a:pt x="3853" y="9029"/>
                  <a:pt x="3795" y="9029"/>
                </a:cubicBezTo>
              </a:path>
              <a:path w="10816" h="6202">
                <a:moveTo>
                  <a:pt x="3969" y="6672"/>
                </a:moveTo>
                <a:cubicBezTo>
                  <a:pt x="3981" y="6720"/>
                  <a:pt x="3972" y="6731"/>
                  <a:pt x="4018" y="6772"/>
                </a:cubicBezTo>
                <a:cubicBezTo>
                  <a:pt x="4170" y="6907"/>
                  <a:pt x="4401" y="6983"/>
                  <a:pt x="4589" y="7045"/>
                </a:cubicBezTo>
                <a:cubicBezTo>
                  <a:pt x="4847" y="7131"/>
                  <a:pt x="5119" y="7206"/>
                  <a:pt x="5383" y="7268"/>
                </a:cubicBezTo>
                <a:cubicBezTo>
                  <a:pt x="5471" y="7289"/>
                  <a:pt x="5522" y="7288"/>
                  <a:pt x="5606" y="7293"/>
                </a:cubicBezTo>
              </a:path>
              <a:path w="10816" h="6202">
                <a:moveTo>
                  <a:pt x="5283" y="5283"/>
                </a:moveTo>
                <a:cubicBezTo>
                  <a:pt x="5283" y="5564"/>
                  <a:pt x="5283" y="5846"/>
                  <a:pt x="5283" y="6127"/>
                </a:cubicBezTo>
              </a:path>
              <a:path w="10816" h="6202">
                <a:moveTo>
                  <a:pt x="7020" y="4837"/>
                </a:moveTo>
                <a:cubicBezTo>
                  <a:pt x="7020" y="5020"/>
                  <a:pt x="7051" y="5243"/>
                  <a:pt x="6995" y="5407"/>
                </a:cubicBezTo>
                <a:cubicBezTo>
                  <a:pt x="6995" y="5432"/>
                  <a:pt x="6995" y="5440"/>
                  <a:pt x="6970" y="5432"/>
                </a:cubicBezTo>
              </a:path>
              <a:path w="10816" h="6202">
                <a:moveTo>
                  <a:pt x="8483" y="5556"/>
                </a:moveTo>
                <a:cubicBezTo>
                  <a:pt x="8518" y="5498"/>
                  <a:pt x="8508" y="5516"/>
                  <a:pt x="8582" y="5457"/>
                </a:cubicBezTo>
                <a:cubicBezTo>
                  <a:pt x="8675" y="5383"/>
                  <a:pt x="8729" y="5338"/>
                  <a:pt x="8830" y="5283"/>
                </a:cubicBezTo>
                <a:cubicBezTo>
                  <a:pt x="8955" y="5214"/>
                  <a:pt x="9068" y="5137"/>
                  <a:pt x="9203" y="5085"/>
                </a:cubicBezTo>
                <a:cubicBezTo>
                  <a:pt x="9336" y="5034"/>
                  <a:pt x="9506" y="4980"/>
                  <a:pt x="9649" y="4961"/>
                </a:cubicBezTo>
                <a:cubicBezTo>
                  <a:pt x="9714" y="4952"/>
                  <a:pt x="9739" y="4944"/>
                  <a:pt x="9798" y="4936"/>
                </a:cubicBezTo>
              </a:path>
              <a:path w="10816" h="6202">
                <a:moveTo>
                  <a:pt x="9599" y="5904"/>
                </a:moveTo>
                <a:cubicBezTo>
                  <a:pt x="9711" y="5904"/>
                  <a:pt x="9812" y="5882"/>
                  <a:pt x="9922" y="5879"/>
                </a:cubicBezTo>
                <a:cubicBezTo>
                  <a:pt x="10117" y="5873"/>
                  <a:pt x="10300" y="5897"/>
                  <a:pt x="10492" y="5928"/>
                </a:cubicBezTo>
                <a:cubicBezTo>
                  <a:pt x="10640" y="5952"/>
                  <a:pt x="10792" y="5964"/>
                  <a:pt x="10939" y="5978"/>
                </a:cubicBezTo>
                <a:cubicBezTo>
                  <a:pt x="10987" y="5983"/>
                  <a:pt x="11040" y="5978"/>
                  <a:pt x="11088" y="5978"/>
                </a:cubicBezTo>
              </a:path>
              <a:path w="10816" h="6202">
                <a:moveTo>
                  <a:pt x="10294" y="7069"/>
                </a:moveTo>
                <a:cubicBezTo>
                  <a:pt x="10357" y="7061"/>
                  <a:pt x="10415" y="7031"/>
                  <a:pt x="10468" y="7020"/>
                </a:cubicBezTo>
                <a:cubicBezTo>
                  <a:pt x="10537" y="7006"/>
                  <a:pt x="10620" y="7020"/>
                  <a:pt x="10691" y="7020"/>
                </a:cubicBezTo>
              </a:path>
              <a:path w="10816" h="6202">
                <a:moveTo>
                  <a:pt x="9500" y="8434"/>
                </a:moveTo>
                <a:cubicBezTo>
                  <a:pt x="9535" y="8445"/>
                  <a:pt x="9552" y="8488"/>
                  <a:pt x="9575" y="8533"/>
                </a:cubicBezTo>
                <a:cubicBezTo>
                  <a:pt x="9617" y="8614"/>
                  <a:pt x="9662" y="8699"/>
                  <a:pt x="9699" y="8781"/>
                </a:cubicBezTo>
                <a:cubicBezTo>
                  <a:pt x="9760" y="8914"/>
                  <a:pt x="9804" y="9064"/>
                  <a:pt x="9847" y="9203"/>
                </a:cubicBezTo>
                <a:cubicBezTo>
                  <a:pt x="9872" y="9284"/>
                  <a:pt x="9915" y="9373"/>
                  <a:pt x="9922" y="9451"/>
                </a:cubicBezTo>
                <a:cubicBezTo>
                  <a:pt x="9922" y="9475"/>
                  <a:pt x="9922" y="9484"/>
                  <a:pt x="9922" y="9500"/>
                </a:cubicBezTo>
              </a:path>
              <a:path w="10816" h="6202">
                <a:moveTo>
                  <a:pt x="8582" y="9748"/>
                </a:moveTo>
                <a:cubicBezTo>
                  <a:pt x="8592" y="9800"/>
                  <a:pt x="8609" y="9849"/>
                  <a:pt x="8632" y="9897"/>
                </a:cubicBezTo>
                <a:cubicBezTo>
                  <a:pt x="8690" y="10019"/>
                  <a:pt x="8748" y="10187"/>
                  <a:pt x="8781" y="10319"/>
                </a:cubicBezTo>
                <a:cubicBezTo>
                  <a:pt x="8828" y="10507"/>
                  <a:pt x="8878" y="10723"/>
                  <a:pt x="8905" y="10914"/>
                </a:cubicBezTo>
                <a:cubicBezTo>
                  <a:pt x="8905" y="10980"/>
                  <a:pt x="8905" y="10997"/>
                  <a:pt x="8905" y="11038"/>
                </a:cubicBezTo>
              </a:path>
              <a:path w="10816" h="6202">
                <a:moveTo>
                  <a:pt x="6796" y="6648"/>
                </a:moveTo>
                <a:cubicBezTo>
                  <a:pt x="6796" y="6703"/>
                  <a:pt x="6807" y="6719"/>
                  <a:pt x="6821" y="6772"/>
                </a:cubicBezTo>
                <a:cubicBezTo>
                  <a:pt x="6832" y="6814"/>
                  <a:pt x="6832" y="6853"/>
                  <a:pt x="6871" y="6871"/>
                </a:cubicBezTo>
                <a:cubicBezTo>
                  <a:pt x="6895" y="6882"/>
                  <a:pt x="6943" y="6889"/>
                  <a:pt x="6970" y="6896"/>
                </a:cubicBezTo>
                <a:cubicBezTo>
                  <a:pt x="6970" y="6845"/>
                  <a:pt x="6984" y="6842"/>
                  <a:pt x="6995" y="6821"/>
                </a:cubicBezTo>
                <a:cubicBezTo>
                  <a:pt x="6998" y="6815"/>
                  <a:pt x="7015" y="6751"/>
                  <a:pt x="7020" y="6747"/>
                </a:cubicBezTo>
                <a:cubicBezTo>
                  <a:pt x="7028" y="6747"/>
                  <a:pt x="7037" y="6747"/>
                  <a:pt x="7045" y="6747"/>
                </a:cubicBezTo>
                <a:cubicBezTo>
                  <a:pt x="7045" y="6799"/>
                  <a:pt x="7044" y="6805"/>
                  <a:pt x="7069" y="6772"/>
                </a:cubicBezTo>
                <a:cubicBezTo>
                  <a:pt x="7093" y="6741"/>
                  <a:pt x="7115" y="6686"/>
                  <a:pt x="7119" y="6648"/>
                </a:cubicBezTo>
                <a:cubicBezTo>
                  <a:pt x="7124" y="6600"/>
                  <a:pt x="7131" y="6536"/>
                  <a:pt x="7094" y="6524"/>
                </a:cubicBezTo>
              </a:path>
              <a:path w="10816" h="6202">
                <a:moveTo>
                  <a:pt x="7392" y="6623"/>
                </a:moveTo>
                <a:cubicBezTo>
                  <a:pt x="7392" y="6648"/>
                  <a:pt x="7392" y="6672"/>
                  <a:pt x="7392" y="6697"/>
                </a:cubicBezTo>
              </a:path>
              <a:path w="10816" h="6202">
                <a:moveTo>
                  <a:pt x="7367" y="6424"/>
                </a:moveTo>
                <a:lnTo>
                  <a:pt x="7367" y="6424"/>
                </a:lnTo>
              </a:path>
              <a:path w="10816" h="6202">
                <a:moveTo>
                  <a:pt x="7838" y="6424"/>
                </a:moveTo>
                <a:cubicBezTo>
                  <a:pt x="7755" y="6424"/>
                  <a:pt x="7673" y="6424"/>
                  <a:pt x="7590" y="6424"/>
                </a:cubicBezTo>
                <a:cubicBezTo>
                  <a:pt x="7645" y="6424"/>
                  <a:pt x="7661" y="6436"/>
                  <a:pt x="7714" y="6449"/>
                </a:cubicBezTo>
                <a:cubicBezTo>
                  <a:pt x="7750" y="6458"/>
                  <a:pt x="7785" y="6465"/>
                  <a:pt x="7789" y="6499"/>
                </a:cubicBezTo>
                <a:cubicBezTo>
                  <a:pt x="7794" y="6539"/>
                  <a:pt x="7789" y="6583"/>
                  <a:pt x="7789" y="6623"/>
                </a:cubicBezTo>
                <a:cubicBezTo>
                  <a:pt x="7739" y="6623"/>
                  <a:pt x="7690" y="6623"/>
                  <a:pt x="7640" y="6623"/>
                </a:cubicBezTo>
              </a:path>
              <a:path w="10816" h="6202">
                <a:moveTo>
                  <a:pt x="8086" y="6325"/>
                </a:moveTo>
                <a:cubicBezTo>
                  <a:pt x="8086" y="6515"/>
                  <a:pt x="8086" y="7036"/>
                  <a:pt x="8086" y="6846"/>
                </a:cubicBezTo>
                <a:cubicBezTo>
                  <a:pt x="8086" y="6780"/>
                  <a:pt x="8086" y="6714"/>
                  <a:pt x="8086" y="6648"/>
                </a:cubicBezTo>
                <a:cubicBezTo>
                  <a:pt x="8136" y="6648"/>
                  <a:pt x="8185" y="6648"/>
                  <a:pt x="8235" y="6648"/>
                </a:cubicBezTo>
                <a:cubicBezTo>
                  <a:pt x="8235" y="6697"/>
                  <a:pt x="8235" y="6747"/>
                  <a:pt x="8235" y="6796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他名叫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Content Placeholder 3" descr="rock.jpg"/>
          <p:cNvPicPr/>
          <p:nvPr/>
        </p:nvPicPr>
        <p:blipFill>
          <a:blip r:embed="rId1"/>
          <a:stretch/>
        </p:blipFill>
        <p:spPr>
          <a:xfrm>
            <a:off x="1752480" y="25146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8"/>
          <p:cNvCxnSpPr/>
          <p:nvPr/>
        </p:nvCxnSpPr>
        <p:spPr>
          <a:xfrm>
            <a:off x="685440" y="2590560"/>
            <a:ext cx="610200" cy="5338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05" name="Recorded Sound" descr=""/>
          <p:cNvPicPr/>
          <p:nvPr/>
        </p:nvPicPr>
        <p:blipFill>
          <a:blip r:embed="rId2"/>
          <a:stretch/>
        </p:blipFill>
        <p:spPr>
          <a:xfrm>
            <a:off x="-121932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Ink 6"/>
          <p:cNvSpPr/>
          <p:nvPr/>
        </p:nvSpPr>
        <p:spPr>
          <a:xfrm>
            <a:off x="3368520" y="3625920"/>
            <a:ext cx="1749600" cy="146160"/>
          </a:xfrm>
          <a:custGeom>
            <a:avLst/>
            <a:gdLst/>
            <a:ahLst/>
            <a:rect l="l" t="t" r="r" b="b"/>
            <a:pathLst>
              <a:path w="4859" h="406">
                <a:moveTo>
                  <a:pt x="9358" y="10335"/>
                </a:moveTo>
                <a:cubicBezTo>
                  <a:pt x="9376" y="10313"/>
                  <a:pt x="9398" y="10274"/>
                  <a:pt x="9430" y="10239"/>
                </a:cubicBezTo>
                <a:cubicBezTo>
                  <a:pt x="9474" y="10191"/>
                  <a:pt x="9453" y="10198"/>
                  <a:pt x="9525" y="10168"/>
                </a:cubicBezTo>
                <a:cubicBezTo>
                  <a:pt x="9583" y="10144"/>
                  <a:pt x="9655" y="10123"/>
                  <a:pt x="9716" y="10120"/>
                </a:cubicBezTo>
                <a:cubicBezTo>
                  <a:pt x="9814" y="10114"/>
                  <a:pt x="9903" y="10101"/>
                  <a:pt x="10001" y="10097"/>
                </a:cubicBezTo>
                <a:cubicBezTo>
                  <a:pt x="10176" y="10090"/>
                  <a:pt x="10383" y="10076"/>
                  <a:pt x="10549" y="10120"/>
                </a:cubicBezTo>
                <a:cubicBezTo>
                  <a:pt x="10640" y="10144"/>
                  <a:pt x="10690" y="10168"/>
                  <a:pt x="10787" y="10168"/>
                </a:cubicBezTo>
                <a:cubicBezTo>
                  <a:pt x="10891" y="10168"/>
                  <a:pt x="10990" y="10230"/>
                  <a:pt x="11097" y="10239"/>
                </a:cubicBezTo>
                <a:cubicBezTo>
                  <a:pt x="11151" y="10244"/>
                  <a:pt x="11196" y="10254"/>
                  <a:pt x="11240" y="10263"/>
                </a:cubicBezTo>
                <a:cubicBezTo>
                  <a:pt x="11284" y="10272"/>
                  <a:pt x="11285" y="10268"/>
                  <a:pt x="11335" y="10287"/>
                </a:cubicBezTo>
              </a:path>
              <a:path w="4859" h="406">
                <a:moveTo>
                  <a:pt x="12144" y="10192"/>
                </a:moveTo>
                <a:cubicBezTo>
                  <a:pt x="12221" y="10186"/>
                  <a:pt x="12262" y="10170"/>
                  <a:pt x="12335" y="10144"/>
                </a:cubicBezTo>
                <a:cubicBezTo>
                  <a:pt x="12409" y="10118"/>
                  <a:pt x="12458" y="10101"/>
                  <a:pt x="12549" y="10097"/>
                </a:cubicBezTo>
                <a:cubicBezTo>
                  <a:pt x="12609" y="10095"/>
                  <a:pt x="12655" y="10076"/>
                  <a:pt x="12716" y="10073"/>
                </a:cubicBezTo>
                <a:cubicBezTo>
                  <a:pt x="12869" y="10066"/>
                  <a:pt x="13076" y="10036"/>
                  <a:pt x="13216" y="10097"/>
                </a:cubicBezTo>
                <a:cubicBezTo>
                  <a:pt x="13348" y="10154"/>
                  <a:pt x="13504" y="10184"/>
                  <a:pt x="13645" y="10239"/>
                </a:cubicBezTo>
                <a:cubicBezTo>
                  <a:pt x="13734" y="10273"/>
                  <a:pt x="13847" y="10310"/>
                  <a:pt x="13930" y="10358"/>
                </a:cubicBezTo>
                <a:cubicBezTo>
                  <a:pt x="14016" y="10408"/>
                  <a:pt x="14103" y="10415"/>
                  <a:pt x="14192" y="10454"/>
                </a:cubicBezTo>
                <a:cubicBezTo>
                  <a:pt x="14200" y="10462"/>
                  <a:pt x="14208" y="10470"/>
                  <a:pt x="14216" y="10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8"/>
          <p:cNvSpPr/>
          <p:nvPr/>
        </p:nvSpPr>
        <p:spPr>
          <a:xfrm>
            <a:off x="4226040" y="3994200"/>
            <a:ext cx="69840" cy="198360"/>
          </a:xfrm>
          <a:custGeom>
            <a:avLst/>
            <a:gdLst/>
            <a:ahLst/>
            <a:rect l="l" t="t" r="r" b="b"/>
            <a:pathLst>
              <a:path w="191" h="548">
                <a:moveTo>
                  <a:pt x="11835" y="11097"/>
                </a:moveTo>
                <a:cubicBezTo>
                  <a:pt x="11835" y="11178"/>
                  <a:pt x="11836" y="11243"/>
                  <a:pt x="11859" y="11311"/>
                </a:cubicBezTo>
                <a:cubicBezTo>
                  <a:pt x="11882" y="11380"/>
                  <a:pt x="11865" y="11400"/>
                  <a:pt x="11906" y="11478"/>
                </a:cubicBezTo>
                <a:cubicBezTo>
                  <a:pt x="11931" y="11526"/>
                  <a:pt x="11930" y="11546"/>
                  <a:pt x="11930" y="11597"/>
                </a:cubicBezTo>
                <a:cubicBezTo>
                  <a:pt x="11930" y="11621"/>
                  <a:pt x="11930" y="11628"/>
                  <a:pt x="11930" y="11644"/>
                </a:cubicBezTo>
                <a:cubicBezTo>
                  <a:pt x="11867" y="11644"/>
                  <a:pt x="11803" y="11644"/>
                  <a:pt x="11740" y="11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0"/>
          <p:cNvSpPr/>
          <p:nvPr/>
        </p:nvSpPr>
        <p:spPr>
          <a:xfrm>
            <a:off x="3746520" y="4595760"/>
            <a:ext cx="1054080" cy="171360"/>
          </a:xfrm>
          <a:custGeom>
            <a:avLst/>
            <a:gdLst/>
            <a:ahLst/>
            <a:rect l="l" t="t" r="r" b="b"/>
            <a:pathLst>
              <a:path w="2930" h="477">
                <a:moveTo>
                  <a:pt x="10406" y="12906"/>
                </a:moveTo>
                <a:cubicBezTo>
                  <a:pt x="10447" y="12910"/>
                  <a:pt x="10496" y="12927"/>
                  <a:pt x="10525" y="12930"/>
                </a:cubicBezTo>
                <a:cubicBezTo>
                  <a:pt x="10566" y="12934"/>
                  <a:pt x="10608" y="12949"/>
                  <a:pt x="10620" y="12954"/>
                </a:cubicBezTo>
                <a:cubicBezTo>
                  <a:pt x="10682" y="12978"/>
                  <a:pt x="10751" y="13003"/>
                  <a:pt x="10811" y="13025"/>
                </a:cubicBezTo>
                <a:cubicBezTo>
                  <a:pt x="10858" y="13043"/>
                  <a:pt x="10907" y="13050"/>
                  <a:pt x="10954" y="13073"/>
                </a:cubicBezTo>
                <a:cubicBezTo>
                  <a:pt x="10992" y="13091"/>
                  <a:pt x="11062" y="13136"/>
                  <a:pt x="11097" y="13145"/>
                </a:cubicBezTo>
                <a:cubicBezTo>
                  <a:pt x="11133" y="13155"/>
                  <a:pt x="11188" y="13187"/>
                  <a:pt x="11216" y="13192"/>
                </a:cubicBezTo>
                <a:cubicBezTo>
                  <a:pt x="11296" y="13206"/>
                  <a:pt x="11353" y="13213"/>
                  <a:pt x="11430" y="13216"/>
                </a:cubicBezTo>
                <a:cubicBezTo>
                  <a:pt x="11630" y="13223"/>
                  <a:pt x="11826" y="13227"/>
                  <a:pt x="12025" y="13240"/>
                </a:cubicBezTo>
                <a:cubicBezTo>
                  <a:pt x="12240" y="13254"/>
                  <a:pt x="12560" y="13291"/>
                  <a:pt x="12764" y="13216"/>
                </a:cubicBezTo>
                <a:cubicBezTo>
                  <a:pt x="12802" y="13202"/>
                  <a:pt x="12809" y="13183"/>
                  <a:pt x="12835" y="13168"/>
                </a:cubicBezTo>
                <a:cubicBezTo>
                  <a:pt x="12883" y="13140"/>
                  <a:pt x="12908" y="13117"/>
                  <a:pt x="12954" y="13073"/>
                </a:cubicBezTo>
                <a:cubicBezTo>
                  <a:pt x="12979" y="13049"/>
                  <a:pt x="13009" y="12992"/>
                  <a:pt x="13025" y="12978"/>
                </a:cubicBezTo>
                <a:cubicBezTo>
                  <a:pt x="13043" y="12963"/>
                  <a:pt x="13095" y="12923"/>
                  <a:pt x="13121" y="12906"/>
                </a:cubicBezTo>
                <a:cubicBezTo>
                  <a:pt x="13159" y="12881"/>
                  <a:pt x="13173" y="12847"/>
                  <a:pt x="13192" y="12835"/>
                </a:cubicBezTo>
                <a:cubicBezTo>
                  <a:pt x="13226" y="12815"/>
                  <a:pt x="13273" y="12811"/>
                  <a:pt x="13311" y="12787"/>
                </a:cubicBezTo>
                <a:cubicBezTo>
                  <a:pt x="13311" y="12764"/>
                  <a:pt x="13311" y="12756"/>
                  <a:pt x="13335" y="12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Then he went to sleep.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然后再睡觉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9" name="Content Placeholder 5" descr="rock.jpg"/>
          <p:cNvPicPr/>
          <p:nvPr/>
        </p:nvPicPr>
        <p:blipFill>
          <a:blip r:embed="rId1"/>
          <a:stretch/>
        </p:blipFill>
        <p:spPr>
          <a:xfrm>
            <a:off x="1981080" y="2209680"/>
            <a:ext cx="4864320" cy="3581640"/>
          </a:xfrm>
          <a:prstGeom prst="rect">
            <a:avLst/>
          </a:prstGeom>
          <a:ln w="0">
            <a:noFill/>
          </a:ln>
        </p:spPr>
      </p:pic>
      <p:pic>
        <p:nvPicPr>
          <p:cNvPr id="220" name="Recorded Sound" descr=""/>
          <p:cNvPicPr/>
          <p:nvPr/>
        </p:nvPicPr>
        <p:blipFill>
          <a:blip r:embed="rId2"/>
          <a:stretch/>
        </p:blipFill>
        <p:spPr>
          <a:xfrm>
            <a:off x="-838080" y="3505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Ink 6"/>
          <p:cNvSpPr/>
          <p:nvPr/>
        </p:nvSpPr>
        <p:spPr>
          <a:xfrm>
            <a:off x="2259000" y="2320920"/>
            <a:ext cx="652320" cy="1251000"/>
          </a:xfrm>
          <a:custGeom>
            <a:avLst/>
            <a:gdLst/>
            <a:ahLst/>
            <a:rect l="l" t="t" r="r" b="b"/>
            <a:pathLst>
              <a:path w="1811" h="3474">
                <a:moveTo>
                  <a:pt x="7466" y="9451"/>
                </a:moveTo>
                <a:cubicBezTo>
                  <a:pt x="7466" y="9567"/>
                  <a:pt x="7466" y="9682"/>
                  <a:pt x="7466" y="9798"/>
                </a:cubicBezTo>
                <a:cubicBezTo>
                  <a:pt x="7425" y="9795"/>
                  <a:pt x="7408" y="9777"/>
                  <a:pt x="7367" y="9773"/>
                </a:cubicBezTo>
                <a:cubicBezTo>
                  <a:pt x="7227" y="9759"/>
                  <a:pt x="6990" y="9743"/>
                  <a:pt x="6871" y="9798"/>
                </a:cubicBezTo>
                <a:cubicBezTo>
                  <a:pt x="6825" y="9819"/>
                  <a:pt x="6783" y="9843"/>
                  <a:pt x="6747" y="9872"/>
                </a:cubicBezTo>
                <a:cubicBezTo>
                  <a:pt x="6703" y="9908"/>
                  <a:pt x="6702" y="9902"/>
                  <a:pt x="6672" y="9922"/>
                </a:cubicBezTo>
                <a:cubicBezTo>
                  <a:pt x="6660" y="9913"/>
                  <a:pt x="6630" y="9876"/>
                  <a:pt x="6623" y="9872"/>
                </a:cubicBezTo>
                <a:cubicBezTo>
                  <a:pt x="6590" y="9855"/>
                  <a:pt x="6590" y="9863"/>
                  <a:pt x="6548" y="9847"/>
                </a:cubicBezTo>
                <a:cubicBezTo>
                  <a:pt x="6543" y="9845"/>
                  <a:pt x="6501" y="9832"/>
                  <a:pt x="6474" y="9823"/>
                </a:cubicBezTo>
                <a:cubicBezTo>
                  <a:pt x="6442" y="9812"/>
                  <a:pt x="6410" y="9808"/>
                  <a:pt x="6375" y="9798"/>
                </a:cubicBezTo>
                <a:cubicBezTo>
                  <a:pt x="6325" y="9783"/>
                  <a:pt x="6370" y="9795"/>
                  <a:pt x="6300" y="9773"/>
                </a:cubicBezTo>
                <a:cubicBezTo>
                  <a:pt x="6309" y="9691"/>
                  <a:pt x="6323" y="9672"/>
                  <a:pt x="6350" y="9599"/>
                </a:cubicBezTo>
                <a:cubicBezTo>
                  <a:pt x="6368" y="9549"/>
                  <a:pt x="6369" y="9504"/>
                  <a:pt x="6375" y="9451"/>
                </a:cubicBezTo>
                <a:cubicBezTo>
                  <a:pt x="6382" y="9390"/>
                  <a:pt x="6373" y="9350"/>
                  <a:pt x="6350" y="9302"/>
                </a:cubicBezTo>
                <a:cubicBezTo>
                  <a:pt x="6332" y="9264"/>
                  <a:pt x="6285" y="9218"/>
                  <a:pt x="6276" y="9178"/>
                </a:cubicBezTo>
                <a:cubicBezTo>
                  <a:pt x="6263" y="9120"/>
                  <a:pt x="6285" y="9056"/>
                  <a:pt x="6300" y="9004"/>
                </a:cubicBezTo>
                <a:cubicBezTo>
                  <a:pt x="6313" y="8960"/>
                  <a:pt x="6343" y="8922"/>
                  <a:pt x="6350" y="8880"/>
                </a:cubicBezTo>
                <a:cubicBezTo>
                  <a:pt x="6362" y="8812"/>
                  <a:pt x="6347" y="8773"/>
                  <a:pt x="6375" y="8706"/>
                </a:cubicBezTo>
                <a:cubicBezTo>
                  <a:pt x="6437" y="8558"/>
                  <a:pt x="6534" y="8439"/>
                  <a:pt x="6623" y="8310"/>
                </a:cubicBezTo>
                <a:cubicBezTo>
                  <a:pt x="6661" y="8255"/>
                  <a:pt x="6675" y="8191"/>
                  <a:pt x="6697" y="8136"/>
                </a:cubicBezTo>
                <a:cubicBezTo>
                  <a:pt x="6707" y="8112"/>
                  <a:pt x="6715" y="8059"/>
                  <a:pt x="6722" y="8037"/>
                </a:cubicBezTo>
                <a:cubicBezTo>
                  <a:pt x="6738" y="7984"/>
                  <a:pt x="6767" y="7918"/>
                  <a:pt x="6772" y="7863"/>
                </a:cubicBezTo>
                <a:cubicBezTo>
                  <a:pt x="6784" y="7733"/>
                  <a:pt x="6785" y="7591"/>
                  <a:pt x="6796" y="7466"/>
                </a:cubicBezTo>
                <a:cubicBezTo>
                  <a:pt x="6805" y="7363"/>
                  <a:pt x="6814" y="7234"/>
                  <a:pt x="6821" y="7144"/>
                </a:cubicBezTo>
                <a:cubicBezTo>
                  <a:pt x="6828" y="7054"/>
                  <a:pt x="6826" y="6974"/>
                  <a:pt x="6846" y="6896"/>
                </a:cubicBezTo>
                <a:cubicBezTo>
                  <a:pt x="6853" y="6867"/>
                  <a:pt x="6870" y="6824"/>
                  <a:pt x="6871" y="6821"/>
                </a:cubicBezTo>
                <a:cubicBezTo>
                  <a:pt x="6884" y="6781"/>
                  <a:pt x="6898" y="6758"/>
                  <a:pt x="6921" y="6722"/>
                </a:cubicBezTo>
                <a:cubicBezTo>
                  <a:pt x="6943" y="6687"/>
                  <a:pt x="6980" y="6664"/>
                  <a:pt x="6995" y="6648"/>
                </a:cubicBezTo>
                <a:cubicBezTo>
                  <a:pt x="7026" y="6615"/>
                  <a:pt x="7046" y="6618"/>
                  <a:pt x="7069" y="6598"/>
                </a:cubicBezTo>
                <a:cubicBezTo>
                  <a:pt x="7090" y="6580"/>
                  <a:pt x="7129" y="6562"/>
                  <a:pt x="7144" y="6548"/>
                </a:cubicBezTo>
                <a:cubicBezTo>
                  <a:pt x="7166" y="6528"/>
                  <a:pt x="7163" y="6516"/>
                  <a:pt x="7193" y="6499"/>
                </a:cubicBezTo>
                <a:cubicBezTo>
                  <a:pt x="7225" y="6481"/>
                  <a:pt x="7254" y="6479"/>
                  <a:pt x="7293" y="6474"/>
                </a:cubicBezTo>
                <a:cubicBezTo>
                  <a:pt x="7340" y="6468"/>
                  <a:pt x="7399" y="6453"/>
                  <a:pt x="7441" y="6449"/>
                </a:cubicBezTo>
                <a:cubicBezTo>
                  <a:pt x="7547" y="6439"/>
                  <a:pt x="7658" y="6449"/>
                  <a:pt x="7764" y="6449"/>
                </a:cubicBezTo>
                <a:cubicBezTo>
                  <a:pt x="7771" y="6506"/>
                  <a:pt x="7765" y="6524"/>
                  <a:pt x="7789" y="6573"/>
                </a:cubicBezTo>
                <a:cubicBezTo>
                  <a:pt x="7808" y="6612"/>
                  <a:pt x="7835" y="6634"/>
                  <a:pt x="7863" y="6672"/>
                </a:cubicBezTo>
                <a:cubicBezTo>
                  <a:pt x="7886" y="6702"/>
                  <a:pt x="7921" y="6760"/>
                  <a:pt x="7938" y="6796"/>
                </a:cubicBezTo>
                <a:cubicBezTo>
                  <a:pt x="7956" y="6834"/>
                  <a:pt x="8004" y="6905"/>
                  <a:pt x="8012" y="6945"/>
                </a:cubicBezTo>
                <a:cubicBezTo>
                  <a:pt x="8024" y="7009"/>
                  <a:pt x="8033" y="7108"/>
                  <a:pt x="8037" y="7169"/>
                </a:cubicBezTo>
                <a:cubicBezTo>
                  <a:pt x="8042" y="7245"/>
                  <a:pt x="8043" y="7297"/>
                  <a:pt x="8062" y="7367"/>
                </a:cubicBezTo>
                <a:cubicBezTo>
                  <a:pt x="8074" y="7409"/>
                  <a:pt x="8087" y="7446"/>
                  <a:pt x="8086" y="7491"/>
                </a:cubicBezTo>
                <a:cubicBezTo>
                  <a:pt x="8085" y="7536"/>
                  <a:pt x="8070" y="7554"/>
                  <a:pt x="8062" y="7590"/>
                </a:cubicBezTo>
                <a:cubicBezTo>
                  <a:pt x="8044" y="7677"/>
                  <a:pt x="7996" y="7730"/>
                  <a:pt x="7962" y="7813"/>
                </a:cubicBezTo>
                <a:cubicBezTo>
                  <a:pt x="7924" y="7907"/>
                  <a:pt x="7878" y="8031"/>
                  <a:pt x="7863" y="8136"/>
                </a:cubicBezTo>
                <a:cubicBezTo>
                  <a:pt x="7853" y="8206"/>
                  <a:pt x="7849" y="8296"/>
                  <a:pt x="7838" y="8334"/>
                </a:cubicBezTo>
                <a:cubicBezTo>
                  <a:pt x="7826" y="8376"/>
                  <a:pt x="7818" y="8414"/>
                  <a:pt x="7813" y="8458"/>
                </a:cubicBezTo>
                <a:cubicBezTo>
                  <a:pt x="7806" y="8517"/>
                  <a:pt x="7803" y="8557"/>
                  <a:pt x="7789" y="8607"/>
                </a:cubicBezTo>
                <a:cubicBezTo>
                  <a:pt x="7780" y="8639"/>
                  <a:pt x="7763" y="8664"/>
                  <a:pt x="7739" y="8706"/>
                </a:cubicBezTo>
                <a:cubicBezTo>
                  <a:pt x="7715" y="8748"/>
                  <a:pt x="7691" y="8783"/>
                  <a:pt x="7665" y="8830"/>
                </a:cubicBezTo>
                <a:cubicBezTo>
                  <a:pt x="7646" y="8864"/>
                  <a:pt x="7629" y="8914"/>
                  <a:pt x="7615" y="8954"/>
                </a:cubicBezTo>
                <a:cubicBezTo>
                  <a:pt x="7602" y="8991"/>
                  <a:pt x="7595" y="9012"/>
                  <a:pt x="7590" y="9054"/>
                </a:cubicBezTo>
                <a:cubicBezTo>
                  <a:pt x="7583" y="9115"/>
                  <a:pt x="7583" y="9146"/>
                  <a:pt x="7565" y="9178"/>
                </a:cubicBezTo>
                <a:cubicBezTo>
                  <a:pt x="7546" y="9211"/>
                  <a:pt x="7535" y="9222"/>
                  <a:pt x="7516" y="9252"/>
                </a:cubicBezTo>
                <a:cubicBezTo>
                  <a:pt x="7498" y="9281"/>
                  <a:pt x="7494" y="9288"/>
                  <a:pt x="7466" y="9327"/>
                </a:cubicBezTo>
                <a:cubicBezTo>
                  <a:pt x="7444" y="9358"/>
                  <a:pt x="7436" y="9399"/>
                  <a:pt x="7417" y="9426"/>
                </a:cubicBezTo>
                <a:cubicBezTo>
                  <a:pt x="7403" y="9446"/>
                  <a:pt x="7431" y="9380"/>
                  <a:pt x="7417" y="9401"/>
                </a:cubicBezTo>
              </a:path>
              <a:path w="1811" h="3474">
                <a:moveTo>
                  <a:pt x="7293" y="7045"/>
                </a:moveTo>
                <a:cubicBezTo>
                  <a:pt x="7391" y="7061"/>
                  <a:pt x="7405" y="7102"/>
                  <a:pt x="7491" y="7144"/>
                </a:cubicBezTo>
                <a:cubicBezTo>
                  <a:pt x="7548" y="7172"/>
                  <a:pt x="7652" y="7200"/>
                  <a:pt x="7689" y="7218"/>
                </a:cubicBezTo>
                <a:cubicBezTo>
                  <a:pt x="7708" y="7227"/>
                  <a:pt x="7686" y="7228"/>
                  <a:pt x="7640" y="7243"/>
                </a:cubicBezTo>
                <a:cubicBezTo>
                  <a:pt x="7596" y="7258"/>
                  <a:pt x="7583" y="7244"/>
                  <a:pt x="7541" y="7268"/>
                </a:cubicBezTo>
                <a:cubicBezTo>
                  <a:pt x="7496" y="7294"/>
                  <a:pt x="7423" y="7324"/>
                  <a:pt x="7392" y="7367"/>
                </a:cubicBezTo>
                <a:cubicBezTo>
                  <a:pt x="7357" y="7416"/>
                  <a:pt x="7320" y="7467"/>
                  <a:pt x="7293" y="7491"/>
                </a:cubicBezTo>
                <a:cubicBezTo>
                  <a:pt x="7270" y="7514"/>
                  <a:pt x="7262" y="7518"/>
                  <a:pt x="7268" y="7541"/>
                </a:cubicBezTo>
                <a:cubicBezTo>
                  <a:pt x="7375" y="7541"/>
                  <a:pt x="7483" y="7541"/>
                  <a:pt x="7590" y="7541"/>
                </a:cubicBezTo>
              </a:path>
              <a:path w="1811" h="3474">
                <a:moveTo>
                  <a:pt x="7119" y="8037"/>
                </a:moveTo>
                <a:cubicBezTo>
                  <a:pt x="7263" y="8037"/>
                  <a:pt x="7404" y="8039"/>
                  <a:pt x="7541" y="8062"/>
                </a:cubicBezTo>
                <a:cubicBezTo>
                  <a:pt x="7570" y="8067"/>
                  <a:pt x="7609" y="8062"/>
                  <a:pt x="7640" y="8062"/>
                </a:cubicBezTo>
                <a:cubicBezTo>
                  <a:pt x="7591" y="8062"/>
                  <a:pt x="7581" y="8073"/>
                  <a:pt x="7541" y="8086"/>
                </a:cubicBezTo>
                <a:cubicBezTo>
                  <a:pt x="7507" y="8097"/>
                  <a:pt x="7512" y="8126"/>
                  <a:pt x="7491" y="8136"/>
                </a:cubicBezTo>
                <a:cubicBezTo>
                  <a:pt x="7459" y="8152"/>
                  <a:pt x="7467" y="8197"/>
                  <a:pt x="7441" y="8210"/>
                </a:cubicBezTo>
                <a:cubicBezTo>
                  <a:pt x="7422" y="8220"/>
                  <a:pt x="7361" y="8229"/>
                  <a:pt x="7342" y="8235"/>
                </a:cubicBezTo>
                <a:cubicBezTo>
                  <a:pt x="7308" y="8246"/>
                  <a:pt x="7249" y="8267"/>
                  <a:pt x="7218" y="8285"/>
                </a:cubicBezTo>
                <a:cubicBezTo>
                  <a:pt x="7199" y="8296"/>
                  <a:pt x="7147" y="8328"/>
                  <a:pt x="7144" y="8334"/>
                </a:cubicBezTo>
                <a:cubicBezTo>
                  <a:pt x="7144" y="8342"/>
                  <a:pt x="7144" y="8351"/>
                  <a:pt x="7144" y="8359"/>
                </a:cubicBezTo>
                <a:cubicBezTo>
                  <a:pt x="7204" y="8359"/>
                  <a:pt x="7243" y="8369"/>
                  <a:pt x="7293" y="8384"/>
                </a:cubicBezTo>
                <a:cubicBezTo>
                  <a:pt x="7344" y="8400"/>
                  <a:pt x="7493" y="8365"/>
                  <a:pt x="7466" y="8384"/>
                </a:cubicBezTo>
                <a:cubicBezTo>
                  <a:pt x="7458" y="8392"/>
                  <a:pt x="7449" y="8401"/>
                  <a:pt x="7441" y="8409"/>
                </a:cubicBezTo>
              </a:path>
              <a:path w="1811" h="3474">
                <a:moveTo>
                  <a:pt x="6821" y="8830"/>
                </a:moveTo>
                <a:cubicBezTo>
                  <a:pt x="6953" y="8830"/>
                  <a:pt x="7086" y="8830"/>
                  <a:pt x="7218" y="8830"/>
                </a:cubicBezTo>
                <a:cubicBezTo>
                  <a:pt x="7152" y="8830"/>
                  <a:pt x="7077" y="8816"/>
                  <a:pt x="7020" y="8855"/>
                </a:cubicBezTo>
                <a:cubicBezTo>
                  <a:pt x="6971" y="8888"/>
                  <a:pt x="6940" y="8942"/>
                  <a:pt x="6896" y="8979"/>
                </a:cubicBezTo>
                <a:cubicBezTo>
                  <a:pt x="6871" y="9000"/>
                  <a:pt x="6782" y="9063"/>
                  <a:pt x="6772" y="9079"/>
                </a:cubicBezTo>
                <a:cubicBezTo>
                  <a:pt x="6760" y="9097"/>
                  <a:pt x="6707" y="9112"/>
                  <a:pt x="6697" y="9128"/>
                </a:cubicBezTo>
                <a:cubicBezTo>
                  <a:pt x="6680" y="9153"/>
                  <a:pt x="6682" y="9148"/>
                  <a:pt x="6672" y="9178"/>
                </a:cubicBezTo>
                <a:cubicBezTo>
                  <a:pt x="6804" y="9178"/>
                  <a:pt x="6937" y="9178"/>
                  <a:pt x="7069" y="917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Ink 7"/>
          <p:cNvSpPr/>
          <p:nvPr/>
        </p:nvSpPr>
        <p:spPr>
          <a:xfrm>
            <a:off x="3146400" y="3635280"/>
            <a:ext cx="650880" cy="839880"/>
          </a:xfrm>
          <a:custGeom>
            <a:avLst/>
            <a:gdLst/>
            <a:ahLst/>
            <a:rect l="l" t="t" r="r" b="b"/>
            <a:pathLst>
              <a:path w="1811" h="2334">
                <a:moveTo>
                  <a:pt x="8739" y="10097"/>
                </a:moveTo>
                <a:cubicBezTo>
                  <a:pt x="8792" y="10097"/>
                  <a:pt x="8814" y="10106"/>
                  <a:pt x="8858" y="10120"/>
                </a:cubicBezTo>
                <a:cubicBezTo>
                  <a:pt x="8894" y="10132"/>
                  <a:pt x="8924" y="10141"/>
                  <a:pt x="8954" y="10168"/>
                </a:cubicBezTo>
                <a:cubicBezTo>
                  <a:pt x="8996" y="10207"/>
                  <a:pt x="9048" y="10256"/>
                  <a:pt x="9096" y="10287"/>
                </a:cubicBezTo>
                <a:cubicBezTo>
                  <a:pt x="9148" y="10320"/>
                  <a:pt x="9185" y="10332"/>
                  <a:pt x="9239" y="10358"/>
                </a:cubicBezTo>
                <a:cubicBezTo>
                  <a:pt x="9296" y="10385"/>
                  <a:pt x="9373" y="10431"/>
                  <a:pt x="9430" y="10454"/>
                </a:cubicBezTo>
                <a:cubicBezTo>
                  <a:pt x="9528" y="10493"/>
                  <a:pt x="9715" y="10449"/>
                  <a:pt x="9811" y="10430"/>
                </a:cubicBezTo>
                <a:cubicBezTo>
                  <a:pt x="9819" y="10430"/>
                  <a:pt x="9827" y="10430"/>
                  <a:pt x="9835" y="10430"/>
                </a:cubicBezTo>
                <a:cubicBezTo>
                  <a:pt x="9836" y="10427"/>
                  <a:pt x="9855" y="10361"/>
                  <a:pt x="9858" y="10358"/>
                </a:cubicBezTo>
                <a:cubicBezTo>
                  <a:pt x="9866" y="10358"/>
                  <a:pt x="9874" y="10358"/>
                  <a:pt x="9882" y="10358"/>
                </a:cubicBezTo>
              </a:path>
              <a:path w="1811" h="2334">
                <a:moveTo>
                  <a:pt x="10549" y="11835"/>
                </a:moveTo>
                <a:cubicBezTo>
                  <a:pt x="10502" y="11835"/>
                  <a:pt x="10466" y="11852"/>
                  <a:pt x="10430" y="11859"/>
                </a:cubicBezTo>
                <a:cubicBezTo>
                  <a:pt x="10380" y="11869"/>
                  <a:pt x="10334" y="11875"/>
                  <a:pt x="10287" y="11906"/>
                </a:cubicBezTo>
                <a:cubicBezTo>
                  <a:pt x="10246" y="11933"/>
                  <a:pt x="10188" y="11963"/>
                  <a:pt x="10144" y="11978"/>
                </a:cubicBezTo>
                <a:cubicBezTo>
                  <a:pt x="10115" y="11988"/>
                  <a:pt x="10077" y="11999"/>
                  <a:pt x="10049" y="12002"/>
                </a:cubicBezTo>
                <a:cubicBezTo>
                  <a:pt x="10011" y="12006"/>
                  <a:pt x="9997" y="12025"/>
                  <a:pt x="9954" y="12025"/>
                </a:cubicBezTo>
              </a:path>
              <a:path w="1811" h="2334">
                <a:moveTo>
                  <a:pt x="9977" y="12025"/>
                </a:moveTo>
                <a:cubicBezTo>
                  <a:pt x="10032" y="12025"/>
                  <a:pt x="10052" y="12034"/>
                  <a:pt x="10097" y="12049"/>
                </a:cubicBezTo>
                <a:cubicBezTo>
                  <a:pt x="10127" y="12059"/>
                  <a:pt x="10164" y="12064"/>
                  <a:pt x="10192" y="12073"/>
                </a:cubicBezTo>
                <a:cubicBezTo>
                  <a:pt x="10216" y="12081"/>
                  <a:pt x="10273" y="12076"/>
                  <a:pt x="10287" y="12097"/>
                </a:cubicBezTo>
                <a:cubicBezTo>
                  <a:pt x="10296" y="12111"/>
                  <a:pt x="10334" y="12166"/>
                  <a:pt x="10335" y="12168"/>
                </a:cubicBezTo>
                <a:cubicBezTo>
                  <a:pt x="10335" y="12176"/>
                  <a:pt x="10335" y="12184"/>
                  <a:pt x="10335" y="12192"/>
                </a:cubicBezTo>
                <a:cubicBezTo>
                  <a:pt x="10328" y="12214"/>
                  <a:pt x="10294" y="12230"/>
                  <a:pt x="10263" y="12240"/>
                </a:cubicBezTo>
                <a:cubicBezTo>
                  <a:pt x="10144" y="12280"/>
                  <a:pt x="9992" y="12200"/>
                  <a:pt x="9882" y="12263"/>
                </a:cubicBezTo>
                <a:cubicBezTo>
                  <a:pt x="9936" y="12263"/>
                  <a:pt x="9915" y="12282"/>
                  <a:pt x="9954" y="12287"/>
                </a:cubicBezTo>
                <a:cubicBezTo>
                  <a:pt x="9998" y="12293"/>
                  <a:pt x="10011" y="12298"/>
                  <a:pt x="10049" y="12311"/>
                </a:cubicBezTo>
                <a:cubicBezTo>
                  <a:pt x="10083" y="12322"/>
                  <a:pt x="10112" y="12321"/>
                  <a:pt x="10144" y="12335"/>
                </a:cubicBezTo>
                <a:cubicBezTo>
                  <a:pt x="10199" y="12359"/>
                  <a:pt x="10228" y="12392"/>
                  <a:pt x="10287" y="12406"/>
                </a:cubicBezTo>
                <a:cubicBezTo>
                  <a:pt x="10333" y="12417"/>
                  <a:pt x="10324" y="12418"/>
                  <a:pt x="10358" y="12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Ink 8"/>
          <p:cNvSpPr/>
          <p:nvPr/>
        </p:nvSpPr>
        <p:spPr>
          <a:xfrm>
            <a:off x="4140360" y="3772080"/>
            <a:ext cx="498240" cy="334800"/>
          </a:xfrm>
          <a:custGeom>
            <a:avLst/>
            <a:gdLst/>
            <a:ahLst/>
            <a:rect l="l" t="t" r="r" b="b"/>
            <a:pathLst>
              <a:path w="1383" h="929">
                <a:moveTo>
                  <a:pt x="11501" y="10478"/>
                </a:moveTo>
                <a:cubicBezTo>
                  <a:pt x="11531" y="10489"/>
                  <a:pt x="11568" y="10489"/>
                  <a:pt x="11597" y="10501"/>
                </a:cubicBezTo>
                <a:cubicBezTo>
                  <a:pt x="11673" y="10532"/>
                  <a:pt x="11715" y="10545"/>
                  <a:pt x="11763" y="10597"/>
                </a:cubicBezTo>
                <a:cubicBezTo>
                  <a:pt x="11798" y="10635"/>
                  <a:pt x="11859" y="10633"/>
                  <a:pt x="11906" y="10668"/>
                </a:cubicBezTo>
                <a:cubicBezTo>
                  <a:pt x="11968" y="10715"/>
                  <a:pt x="11982" y="10717"/>
                  <a:pt x="12049" y="10739"/>
                </a:cubicBezTo>
                <a:cubicBezTo>
                  <a:pt x="12093" y="10754"/>
                  <a:pt x="12178" y="10769"/>
                  <a:pt x="12216" y="10787"/>
                </a:cubicBezTo>
                <a:cubicBezTo>
                  <a:pt x="12286" y="10820"/>
                  <a:pt x="12308" y="10855"/>
                  <a:pt x="12383" y="10859"/>
                </a:cubicBezTo>
                <a:cubicBezTo>
                  <a:pt x="12477" y="10864"/>
                  <a:pt x="12558" y="10849"/>
                  <a:pt x="12644" y="10835"/>
                </a:cubicBezTo>
                <a:cubicBezTo>
                  <a:pt x="12685" y="10828"/>
                  <a:pt x="12726" y="10817"/>
                  <a:pt x="12764" y="10811"/>
                </a:cubicBezTo>
                <a:cubicBezTo>
                  <a:pt x="12813" y="10803"/>
                  <a:pt x="12843" y="10786"/>
                  <a:pt x="12883" y="10763"/>
                </a:cubicBezTo>
              </a:path>
              <a:path w="1383" h="929">
                <a:moveTo>
                  <a:pt x="12049" y="11406"/>
                </a:moveTo>
                <a:lnTo>
                  <a:pt x="12049" y="114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was Blue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， 他是蓝色的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0" name="Content Placeholder 3" descr="blue.jpg"/>
          <p:cNvPicPr/>
          <p:nvPr/>
        </p:nvPicPr>
        <p:blipFill>
          <a:blip r:embed="rId1"/>
          <a:stretch/>
        </p:blipFill>
        <p:spPr>
          <a:xfrm>
            <a:off x="2286000" y="2209680"/>
            <a:ext cx="4191120" cy="426420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-9907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was the smallest in his family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，他在家里最小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Content Placeholder 3" descr="rock.jpg"/>
          <p:cNvPicPr/>
          <p:nvPr/>
        </p:nvPicPr>
        <p:blipFill>
          <a:blip r:embed="rId1"/>
          <a:stretch/>
        </p:blipFill>
        <p:spPr>
          <a:xfrm>
            <a:off x="1066680" y="5105520"/>
            <a:ext cx="1238400" cy="742680"/>
          </a:xfrm>
          <a:prstGeom prst="rect">
            <a:avLst/>
          </a:prstGeom>
          <a:ln w="0">
            <a:noFill/>
          </a:ln>
        </p:spPr>
      </p:pic>
      <p:cxnSp>
        <p:nvCxnSpPr>
          <p:cNvPr id="114" name="Straight Arrow Connector 5"/>
          <p:cNvCxnSpPr/>
          <p:nvPr/>
        </p:nvCxnSpPr>
        <p:spPr>
          <a:xfrm flipH="1">
            <a:off x="1598400" y="2592000"/>
            <a:ext cx="3600" cy="1143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15" name="Picture 6" descr="rock.jpg"/>
          <p:cNvPicPr/>
          <p:nvPr/>
        </p:nvPicPr>
        <p:blipFill>
          <a:blip r:embed="rId2"/>
          <a:stretch/>
        </p:blipFill>
        <p:spPr>
          <a:xfrm>
            <a:off x="5486400" y="2971800"/>
            <a:ext cx="3352680" cy="287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ock.jpg"/>
          <p:cNvPicPr/>
          <p:nvPr/>
        </p:nvPicPr>
        <p:blipFill>
          <a:blip r:embed="rId3"/>
          <a:stretch/>
        </p:blipFill>
        <p:spPr>
          <a:xfrm>
            <a:off x="2743200" y="3581280"/>
            <a:ext cx="2362320" cy="2163960"/>
          </a:xfrm>
          <a:prstGeom prst="rect">
            <a:avLst/>
          </a:prstGeom>
          <a:ln w="0">
            <a:noFill/>
          </a:ln>
        </p:spPr>
      </p:pic>
      <p:pic>
        <p:nvPicPr>
          <p:cNvPr id="117" name="Recorded Sound" descr=""/>
          <p:cNvPicPr/>
          <p:nvPr/>
        </p:nvPicPr>
        <p:blipFill>
          <a:blip r:embed="rId4"/>
          <a:stretch/>
        </p:blipFill>
        <p:spPr>
          <a:xfrm>
            <a:off x="-91440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Ink 7"/>
          <p:cNvSpPr/>
          <p:nvPr/>
        </p:nvSpPr>
        <p:spPr>
          <a:xfrm>
            <a:off x="1542960" y="5392800"/>
            <a:ext cx="128520" cy="196920"/>
          </a:xfrm>
          <a:custGeom>
            <a:avLst/>
            <a:gdLst/>
            <a:ahLst/>
            <a:rect l="l" t="t" r="r" b="b"/>
            <a:pathLst>
              <a:path w="358" h="549">
                <a:moveTo>
                  <a:pt x="4620" y="14978"/>
                </a:moveTo>
                <a:lnTo>
                  <a:pt x="4620" y="14978"/>
                </a:lnTo>
              </a:path>
              <a:path w="358" h="549">
                <a:moveTo>
                  <a:pt x="4286" y="15526"/>
                </a:moveTo>
                <a:cubicBezTo>
                  <a:pt x="4350" y="15526"/>
                  <a:pt x="4413" y="15526"/>
                  <a:pt x="4477" y="15526"/>
                </a:cubicBezTo>
              </a:path>
              <a:path w="358" h="549">
                <a:moveTo>
                  <a:pt x="4405" y="15192"/>
                </a:moveTo>
                <a:cubicBezTo>
                  <a:pt x="4397" y="15192"/>
                  <a:pt x="4390" y="15192"/>
                  <a:pt x="4382" y="15192"/>
                </a:cubicBezTo>
                <a:cubicBezTo>
                  <a:pt x="4371" y="15226"/>
                  <a:pt x="4375" y="15216"/>
                  <a:pt x="4334" y="15216"/>
                </a:cubicBezTo>
                <a:cubicBezTo>
                  <a:pt x="4322" y="15252"/>
                  <a:pt x="4310" y="15236"/>
                  <a:pt x="4310" y="15288"/>
                </a:cubicBezTo>
                <a:cubicBezTo>
                  <a:pt x="4274" y="15300"/>
                  <a:pt x="4286" y="15316"/>
                  <a:pt x="4286" y="15359"/>
                </a:cubicBezTo>
                <a:cubicBezTo>
                  <a:pt x="4286" y="15367"/>
                  <a:pt x="4286" y="15375"/>
                  <a:pt x="4286" y="15383"/>
                </a:cubicBezTo>
              </a:path>
              <a:path w="358" h="549">
                <a:moveTo>
                  <a:pt x="4620" y="15026"/>
                </a:moveTo>
                <a:cubicBezTo>
                  <a:pt x="4620" y="15018"/>
                  <a:pt x="4620" y="15010"/>
                  <a:pt x="4620" y="15002"/>
                </a:cubicBezTo>
                <a:cubicBezTo>
                  <a:pt x="4653" y="15014"/>
                  <a:pt x="4653" y="15014"/>
                  <a:pt x="4620" y="15026"/>
                </a:cubicBezTo>
                <a:cubicBezTo>
                  <a:pt x="4609" y="15058"/>
                  <a:pt x="4607" y="15048"/>
                  <a:pt x="4572" y="15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8"/>
          <p:cNvSpPr/>
          <p:nvPr/>
        </p:nvSpPr>
        <p:spPr>
          <a:xfrm>
            <a:off x="1440000" y="5349960"/>
            <a:ext cx="44280" cy="33120"/>
          </a:xfrm>
          <a:custGeom>
            <a:avLst/>
            <a:gdLst/>
            <a:ahLst/>
            <a:rect l="l" t="t" r="r" b="b"/>
            <a:pathLst>
              <a:path w="120" h="96">
                <a:moveTo>
                  <a:pt x="4072" y="14954"/>
                </a:moveTo>
                <a:lnTo>
                  <a:pt x="4072" y="14954"/>
                </a:lnTo>
              </a:path>
              <a:path w="120" h="96">
                <a:moveTo>
                  <a:pt x="4048" y="14954"/>
                </a:moveTo>
                <a:cubicBezTo>
                  <a:pt x="4072" y="14954"/>
                  <a:pt x="4096" y="14954"/>
                  <a:pt x="4120" y="14954"/>
                </a:cubicBezTo>
                <a:cubicBezTo>
                  <a:pt x="4084" y="14942"/>
                  <a:pt x="4100" y="14930"/>
                  <a:pt x="4048" y="14930"/>
                </a:cubicBezTo>
                <a:cubicBezTo>
                  <a:pt x="4037" y="14898"/>
                  <a:pt x="4012" y="14905"/>
                  <a:pt x="4001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9"/>
          <p:cNvSpPr/>
          <p:nvPr/>
        </p:nvSpPr>
        <p:spPr>
          <a:xfrm>
            <a:off x="6540480" y="3807000"/>
            <a:ext cx="942840" cy="1414440"/>
          </a:xfrm>
          <a:custGeom>
            <a:avLst/>
            <a:gdLst/>
            <a:ahLst/>
            <a:rect l="l" t="t" r="r" b="b"/>
            <a:pathLst>
              <a:path w="2620" h="3930">
                <a:moveTo>
                  <a:pt x="18431" y="10954"/>
                </a:moveTo>
                <a:cubicBezTo>
                  <a:pt x="18403" y="10937"/>
                  <a:pt x="18393" y="10948"/>
                  <a:pt x="18359" y="10930"/>
                </a:cubicBezTo>
                <a:cubicBezTo>
                  <a:pt x="18344" y="10922"/>
                  <a:pt x="18327" y="10891"/>
                  <a:pt x="18288" y="10882"/>
                </a:cubicBezTo>
                <a:cubicBezTo>
                  <a:pt x="18230" y="10868"/>
                  <a:pt x="18240" y="10904"/>
                  <a:pt x="18217" y="10930"/>
                </a:cubicBezTo>
                <a:cubicBezTo>
                  <a:pt x="18196" y="10953"/>
                  <a:pt x="18180" y="10940"/>
                  <a:pt x="18169" y="10978"/>
                </a:cubicBezTo>
                <a:cubicBezTo>
                  <a:pt x="18157" y="11019"/>
                  <a:pt x="18163" y="11094"/>
                  <a:pt x="18193" y="11120"/>
                </a:cubicBezTo>
                <a:cubicBezTo>
                  <a:pt x="18255" y="11174"/>
                  <a:pt x="18360" y="11242"/>
                  <a:pt x="18407" y="11311"/>
                </a:cubicBezTo>
                <a:cubicBezTo>
                  <a:pt x="18487" y="11430"/>
                  <a:pt x="18580" y="11504"/>
                  <a:pt x="18693" y="11597"/>
                </a:cubicBezTo>
                <a:cubicBezTo>
                  <a:pt x="18731" y="11628"/>
                  <a:pt x="18840" y="11764"/>
                  <a:pt x="18883" y="11787"/>
                </a:cubicBezTo>
                <a:cubicBezTo>
                  <a:pt x="18902" y="11797"/>
                  <a:pt x="18957" y="11787"/>
                  <a:pt x="18979" y="11787"/>
                </a:cubicBezTo>
                <a:cubicBezTo>
                  <a:pt x="18979" y="11723"/>
                  <a:pt x="18976" y="11681"/>
                  <a:pt x="18955" y="11621"/>
                </a:cubicBezTo>
                <a:cubicBezTo>
                  <a:pt x="18938" y="11574"/>
                  <a:pt x="18894" y="11497"/>
                  <a:pt x="18883" y="11454"/>
                </a:cubicBezTo>
                <a:cubicBezTo>
                  <a:pt x="18870" y="11405"/>
                  <a:pt x="18847" y="11363"/>
                  <a:pt x="18836" y="11311"/>
                </a:cubicBezTo>
                <a:cubicBezTo>
                  <a:pt x="18826" y="11268"/>
                  <a:pt x="18798" y="11229"/>
                  <a:pt x="18788" y="11192"/>
                </a:cubicBezTo>
                <a:cubicBezTo>
                  <a:pt x="18774" y="11139"/>
                  <a:pt x="18781" y="11139"/>
                  <a:pt x="18740" y="11097"/>
                </a:cubicBezTo>
                <a:cubicBezTo>
                  <a:pt x="18733" y="11090"/>
                  <a:pt x="18696" y="11054"/>
                  <a:pt x="18693" y="11049"/>
                </a:cubicBezTo>
                <a:cubicBezTo>
                  <a:pt x="18679" y="11027"/>
                  <a:pt x="18660" y="10987"/>
                  <a:pt x="18645" y="10978"/>
                </a:cubicBezTo>
                <a:cubicBezTo>
                  <a:pt x="18597" y="10947"/>
                  <a:pt x="18549" y="10925"/>
                  <a:pt x="18502" y="10882"/>
                </a:cubicBezTo>
                <a:cubicBezTo>
                  <a:pt x="18474" y="10856"/>
                  <a:pt x="18468" y="10821"/>
                  <a:pt x="18431" y="10811"/>
                </a:cubicBezTo>
                <a:cubicBezTo>
                  <a:pt x="18387" y="10798"/>
                  <a:pt x="18390" y="10806"/>
                  <a:pt x="18359" y="10787"/>
                </a:cubicBezTo>
              </a:path>
              <a:path w="2620" h="3930">
                <a:moveTo>
                  <a:pt x="19931" y="10620"/>
                </a:moveTo>
                <a:cubicBezTo>
                  <a:pt x="19895" y="10632"/>
                  <a:pt x="19907" y="10649"/>
                  <a:pt x="19907" y="10692"/>
                </a:cubicBezTo>
                <a:cubicBezTo>
                  <a:pt x="19907" y="10793"/>
                  <a:pt x="19901" y="10891"/>
                  <a:pt x="19931" y="10978"/>
                </a:cubicBezTo>
                <a:cubicBezTo>
                  <a:pt x="19947" y="11024"/>
                  <a:pt x="19940" y="11042"/>
                  <a:pt x="19955" y="11073"/>
                </a:cubicBezTo>
                <a:cubicBezTo>
                  <a:pt x="19973" y="11110"/>
                  <a:pt x="19991" y="11157"/>
                  <a:pt x="20003" y="11192"/>
                </a:cubicBezTo>
                <a:cubicBezTo>
                  <a:pt x="20011" y="11216"/>
                  <a:pt x="20005" y="11273"/>
                  <a:pt x="20026" y="11287"/>
                </a:cubicBezTo>
                <a:cubicBezTo>
                  <a:pt x="20045" y="11300"/>
                  <a:pt x="20062" y="11325"/>
                  <a:pt x="20074" y="11359"/>
                </a:cubicBezTo>
                <a:cubicBezTo>
                  <a:pt x="20086" y="11394"/>
                  <a:pt x="20098" y="11379"/>
                  <a:pt x="20098" y="11430"/>
                </a:cubicBezTo>
                <a:cubicBezTo>
                  <a:pt x="20098" y="11477"/>
                  <a:pt x="20160" y="11506"/>
                  <a:pt x="20169" y="11525"/>
                </a:cubicBezTo>
                <a:cubicBezTo>
                  <a:pt x="20186" y="11558"/>
                  <a:pt x="20194" y="11549"/>
                  <a:pt x="20241" y="11549"/>
                </a:cubicBezTo>
                <a:cubicBezTo>
                  <a:pt x="20249" y="11549"/>
                  <a:pt x="20256" y="11549"/>
                  <a:pt x="20264" y="11549"/>
                </a:cubicBezTo>
                <a:cubicBezTo>
                  <a:pt x="20264" y="11367"/>
                  <a:pt x="20307" y="11067"/>
                  <a:pt x="20241" y="10930"/>
                </a:cubicBezTo>
                <a:cubicBezTo>
                  <a:pt x="20229" y="10905"/>
                  <a:pt x="20197" y="10867"/>
                  <a:pt x="20193" y="10859"/>
                </a:cubicBezTo>
                <a:cubicBezTo>
                  <a:pt x="20180" y="10833"/>
                  <a:pt x="20158" y="10825"/>
                  <a:pt x="20145" y="10787"/>
                </a:cubicBezTo>
                <a:cubicBezTo>
                  <a:pt x="20140" y="10771"/>
                  <a:pt x="20124" y="10729"/>
                  <a:pt x="20098" y="10716"/>
                </a:cubicBezTo>
                <a:cubicBezTo>
                  <a:pt x="20070" y="10703"/>
                  <a:pt x="20066" y="10662"/>
                  <a:pt x="20026" y="10644"/>
                </a:cubicBezTo>
                <a:cubicBezTo>
                  <a:pt x="20001" y="10633"/>
                  <a:pt x="19987" y="10598"/>
                  <a:pt x="19979" y="10573"/>
                </a:cubicBezTo>
              </a:path>
              <a:path w="2620" h="3930">
                <a:moveTo>
                  <a:pt x="19693" y="11882"/>
                </a:moveTo>
                <a:cubicBezTo>
                  <a:pt x="19701" y="11882"/>
                  <a:pt x="19709" y="11882"/>
                  <a:pt x="19717" y="11882"/>
                </a:cubicBezTo>
                <a:cubicBezTo>
                  <a:pt x="19727" y="11913"/>
                  <a:pt x="19755" y="11911"/>
                  <a:pt x="19764" y="11930"/>
                </a:cubicBezTo>
                <a:cubicBezTo>
                  <a:pt x="19775" y="11952"/>
                  <a:pt x="19782" y="11977"/>
                  <a:pt x="19788" y="12002"/>
                </a:cubicBezTo>
                <a:cubicBezTo>
                  <a:pt x="19840" y="12019"/>
                  <a:pt x="19784" y="12052"/>
                  <a:pt x="19836" y="12097"/>
                </a:cubicBezTo>
                <a:cubicBezTo>
                  <a:pt x="19854" y="12113"/>
                  <a:pt x="19883" y="12132"/>
                  <a:pt x="19907" y="12144"/>
                </a:cubicBezTo>
                <a:cubicBezTo>
                  <a:pt x="19922" y="12251"/>
                  <a:pt x="19962" y="12170"/>
                  <a:pt x="20003" y="12263"/>
                </a:cubicBezTo>
                <a:cubicBezTo>
                  <a:pt x="20016" y="12293"/>
                  <a:pt x="20022" y="12336"/>
                  <a:pt x="20050" y="12359"/>
                </a:cubicBezTo>
                <a:cubicBezTo>
                  <a:pt x="20097" y="12398"/>
                  <a:pt x="20138" y="12437"/>
                  <a:pt x="20169" y="12478"/>
                </a:cubicBezTo>
                <a:cubicBezTo>
                  <a:pt x="20195" y="12511"/>
                  <a:pt x="20193" y="12507"/>
                  <a:pt x="20193" y="12549"/>
                </a:cubicBezTo>
                <a:cubicBezTo>
                  <a:pt x="20119" y="12549"/>
                  <a:pt x="20064" y="12552"/>
                  <a:pt x="20003" y="12573"/>
                </a:cubicBezTo>
                <a:cubicBezTo>
                  <a:pt x="19979" y="12573"/>
                  <a:pt x="19971" y="12573"/>
                  <a:pt x="19955" y="12573"/>
                </a:cubicBezTo>
              </a:path>
              <a:path w="2620" h="3930">
                <a:moveTo>
                  <a:pt x="18907" y="13454"/>
                </a:moveTo>
                <a:cubicBezTo>
                  <a:pt x="18946" y="13459"/>
                  <a:pt x="18968" y="13463"/>
                  <a:pt x="19002" y="13478"/>
                </a:cubicBezTo>
                <a:cubicBezTo>
                  <a:pt x="19026" y="13489"/>
                  <a:pt x="19074" y="13521"/>
                  <a:pt x="19098" y="13526"/>
                </a:cubicBezTo>
                <a:cubicBezTo>
                  <a:pt x="19143" y="13536"/>
                  <a:pt x="19137" y="13532"/>
                  <a:pt x="19169" y="13549"/>
                </a:cubicBezTo>
                <a:cubicBezTo>
                  <a:pt x="19205" y="13568"/>
                  <a:pt x="19253" y="13612"/>
                  <a:pt x="19288" y="13621"/>
                </a:cubicBezTo>
                <a:cubicBezTo>
                  <a:pt x="19324" y="13631"/>
                  <a:pt x="19350" y="13632"/>
                  <a:pt x="19383" y="13645"/>
                </a:cubicBezTo>
                <a:cubicBezTo>
                  <a:pt x="19460" y="13675"/>
                  <a:pt x="19515" y="13692"/>
                  <a:pt x="19598" y="13692"/>
                </a:cubicBezTo>
                <a:cubicBezTo>
                  <a:pt x="19710" y="13692"/>
                  <a:pt x="19827" y="13708"/>
                  <a:pt x="19931" y="13668"/>
                </a:cubicBezTo>
                <a:cubicBezTo>
                  <a:pt x="19968" y="13653"/>
                  <a:pt x="20013" y="13632"/>
                  <a:pt x="20050" y="13621"/>
                </a:cubicBezTo>
                <a:cubicBezTo>
                  <a:pt x="20138" y="13595"/>
                  <a:pt x="20180" y="13591"/>
                  <a:pt x="20264" y="13573"/>
                </a:cubicBezTo>
                <a:cubicBezTo>
                  <a:pt x="20311" y="13563"/>
                  <a:pt x="20358" y="13525"/>
                  <a:pt x="20407" y="13502"/>
                </a:cubicBezTo>
                <a:cubicBezTo>
                  <a:pt x="20438" y="13487"/>
                  <a:pt x="20489" y="13462"/>
                  <a:pt x="20526" y="13454"/>
                </a:cubicBezTo>
                <a:cubicBezTo>
                  <a:pt x="20565" y="13445"/>
                  <a:pt x="20606" y="13436"/>
                  <a:pt x="20645" y="13430"/>
                </a:cubicBezTo>
                <a:cubicBezTo>
                  <a:pt x="20691" y="13423"/>
                  <a:pt x="20742" y="13430"/>
                  <a:pt x="20788" y="13430"/>
                </a:cubicBezTo>
                <a:cubicBezTo>
                  <a:pt x="20757" y="13453"/>
                  <a:pt x="20730" y="13475"/>
                  <a:pt x="20669" y="13502"/>
                </a:cubicBezTo>
                <a:cubicBezTo>
                  <a:pt x="20584" y="13540"/>
                  <a:pt x="20571" y="13548"/>
                  <a:pt x="20550" y="13597"/>
                </a:cubicBezTo>
                <a:cubicBezTo>
                  <a:pt x="20496" y="13720"/>
                  <a:pt x="20580" y="13902"/>
                  <a:pt x="20526" y="14026"/>
                </a:cubicBezTo>
                <a:cubicBezTo>
                  <a:pt x="20509" y="14065"/>
                  <a:pt x="20469" y="14101"/>
                  <a:pt x="20455" y="14121"/>
                </a:cubicBezTo>
                <a:cubicBezTo>
                  <a:pt x="20440" y="14144"/>
                  <a:pt x="20420" y="14189"/>
                  <a:pt x="20407" y="14216"/>
                </a:cubicBezTo>
                <a:cubicBezTo>
                  <a:pt x="20382" y="14267"/>
                  <a:pt x="20370" y="14271"/>
                  <a:pt x="20336" y="14311"/>
                </a:cubicBezTo>
                <a:cubicBezTo>
                  <a:pt x="20308" y="14345"/>
                  <a:pt x="20275" y="14364"/>
                  <a:pt x="20241" y="14383"/>
                </a:cubicBezTo>
                <a:cubicBezTo>
                  <a:pt x="20196" y="14408"/>
                  <a:pt x="20173" y="14459"/>
                  <a:pt x="20122" y="14478"/>
                </a:cubicBezTo>
                <a:cubicBezTo>
                  <a:pt x="20094" y="14489"/>
                  <a:pt x="20054" y="14497"/>
                  <a:pt x="20026" y="14502"/>
                </a:cubicBezTo>
                <a:cubicBezTo>
                  <a:pt x="19930" y="14518"/>
                  <a:pt x="19798" y="14487"/>
                  <a:pt x="19741" y="14478"/>
                </a:cubicBezTo>
                <a:cubicBezTo>
                  <a:pt x="19688" y="14470"/>
                  <a:pt x="19678" y="14472"/>
                  <a:pt x="19645" y="14454"/>
                </a:cubicBezTo>
                <a:cubicBezTo>
                  <a:pt x="19615" y="14438"/>
                  <a:pt x="19608" y="14416"/>
                  <a:pt x="19574" y="14407"/>
                </a:cubicBezTo>
                <a:cubicBezTo>
                  <a:pt x="19502" y="14388"/>
                  <a:pt x="19542" y="14383"/>
                  <a:pt x="19502" y="14359"/>
                </a:cubicBezTo>
                <a:cubicBezTo>
                  <a:pt x="19466" y="14337"/>
                  <a:pt x="19399" y="14279"/>
                  <a:pt x="19360" y="14264"/>
                </a:cubicBezTo>
                <a:cubicBezTo>
                  <a:pt x="19311" y="14245"/>
                  <a:pt x="19294" y="14236"/>
                  <a:pt x="19241" y="14192"/>
                </a:cubicBezTo>
                <a:cubicBezTo>
                  <a:pt x="19229" y="14182"/>
                  <a:pt x="19158" y="14136"/>
                  <a:pt x="19145" y="14121"/>
                </a:cubicBezTo>
                <a:cubicBezTo>
                  <a:pt x="19128" y="14102"/>
                  <a:pt x="19111" y="14063"/>
                  <a:pt x="19098" y="14049"/>
                </a:cubicBezTo>
                <a:cubicBezTo>
                  <a:pt x="19076" y="14024"/>
                  <a:pt x="19091" y="14013"/>
                  <a:pt x="19074" y="13978"/>
                </a:cubicBezTo>
                <a:cubicBezTo>
                  <a:pt x="19060" y="13949"/>
                  <a:pt x="19049" y="13952"/>
                  <a:pt x="19026" y="13930"/>
                </a:cubicBezTo>
                <a:cubicBezTo>
                  <a:pt x="19006" y="13911"/>
                  <a:pt x="19004" y="13898"/>
                  <a:pt x="19002" y="13859"/>
                </a:cubicBezTo>
                <a:cubicBezTo>
                  <a:pt x="19000" y="13827"/>
                  <a:pt x="18979" y="13788"/>
                  <a:pt x="18979" y="13787"/>
                </a:cubicBezTo>
                <a:cubicBezTo>
                  <a:pt x="18969" y="13735"/>
                  <a:pt x="18962" y="13665"/>
                  <a:pt x="18955" y="13621"/>
                </a:cubicBezTo>
                <a:cubicBezTo>
                  <a:pt x="18949" y="13584"/>
                  <a:pt x="18955" y="13540"/>
                  <a:pt x="18955" y="13502"/>
                </a:cubicBezTo>
              </a:path>
              <a:path w="2620" h="3930">
                <a:moveTo>
                  <a:pt x="19526" y="14264"/>
                </a:moveTo>
                <a:cubicBezTo>
                  <a:pt x="19526" y="14256"/>
                  <a:pt x="19526" y="14248"/>
                  <a:pt x="19526" y="14240"/>
                </a:cubicBezTo>
                <a:cubicBezTo>
                  <a:pt x="19549" y="14234"/>
                  <a:pt x="19602" y="14227"/>
                  <a:pt x="19622" y="14216"/>
                </a:cubicBezTo>
                <a:cubicBezTo>
                  <a:pt x="19661" y="14194"/>
                  <a:pt x="19668" y="14192"/>
                  <a:pt x="19717" y="14192"/>
                </a:cubicBezTo>
                <a:cubicBezTo>
                  <a:pt x="19765" y="14192"/>
                  <a:pt x="19812" y="14192"/>
                  <a:pt x="19860" y="14192"/>
                </a:cubicBezTo>
                <a:cubicBezTo>
                  <a:pt x="19872" y="14156"/>
                  <a:pt x="19888" y="14168"/>
                  <a:pt x="19931" y="14168"/>
                </a:cubicBezTo>
                <a:cubicBezTo>
                  <a:pt x="20122" y="14168"/>
                  <a:pt x="20312" y="14168"/>
                  <a:pt x="20503" y="14168"/>
                </a:cubicBezTo>
              </a:path>
              <a:path w="2620" h="3930">
                <a:moveTo>
                  <a:pt x="20122" y="11001"/>
                </a:moveTo>
                <a:cubicBezTo>
                  <a:pt x="20122" y="10948"/>
                  <a:pt x="20103" y="10969"/>
                  <a:pt x="20098" y="10930"/>
                </a:cubicBezTo>
                <a:cubicBezTo>
                  <a:pt x="20091" y="10874"/>
                  <a:pt x="20118" y="10968"/>
                  <a:pt x="20122" y="10978"/>
                </a:cubicBezTo>
                <a:cubicBezTo>
                  <a:pt x="20132" y="11008"/>
                  <a:pt x="20160" y="11007"/>
                  <a:pt x="20169" y="11025"/>
                </a:cubicBezTo>
                <a:cubicBezTo>
                  <a:pt x="20189" y="11064"/>
                  <a:pt x="20193" y="11132"/>
                  <a:pt x="20217" y="11168"/>
                </a:cubicBezTo>
                <a:cubicBezTo>
                  <a:pt x="20237" y="11197"/>
                  <a:pt x="20282" y="11251"/>
                  <a:pt x="20288" y="11263"/>
                </a:cubicBezTo>
                <a:cubicBezTo>
                  <a:pt x="20325" y="11337"/>
                  <a:pt x="20288" y="11263"/>
                  <a:pt x="20288" y="11263"/>
                </a:cubicBezTo>
                <a:cubicBezTo>
                  <a:pt x="20279" y="11256"/>
                  <a:pt x="20245" y="11218"/>
                  <a:pt x="20241" y="11216"/>
                </a:cubicBezTo>
                <a:cubicBezTo>
                  <a:pt x="20214" y="11202"/>
                  <a:pt x="20181" y="11216"/>
                  <a:pt x="20169" y="11192"/>
                </a:cubicBezTo>
                <a:cubicBezTo>
                  <a:pt x="20169" y="11168"/>
                  <a:pt x="20169" y="11160"/>
                  <a:pt x="20169" y="11144"/>
                </a:cubicBezTo>
              </a:path>
              <a:path w="2620" h="3930">
                <a:moveTo>
                  <a:pt x="18550" y="11120"/>
                </a:moveTo>
                <a:cubicBezTo>
                  <a:pt x="18574" y="11120"/>
                  <a:pt x="18597" y="11120"/>
                  <a:pt x="18621" y="11120"/>
                </a:cubicBezTo>
                <a:cubicBezTo>
                  <a:pt x="18621" y="11170"/>
                  <a:pt x="18619" y="11168"/>
                  <a:pt x="18669" y="11168"/>
                </a:cubicBezTo>
                <a:cubicBezTo>
                  <a:pt x="18693" y="11168"/>
                  <a:pt x="18716" y="11168"/>
                  <a:pt x="18740" y="11168"/>
                </a:cubicBezTo>
              </a:path>
              <a:path w="2620" h="3930">
                <a:moveTo>
                  <a:pt x="19741" y="14311"/>
                </a:moveTo>
                <a:cubicBezTo>
                  <a:pt x="19782" y="14311"/>
                  <a:pt x="19800" y="14324"/>
                  <a:pt x="19836" y="14335"/>
                </a:cubicBezTo>
                <a:cubicBezTo>
                  <a:pt x="19897" y="14354"/>
                  <a:pt x="19920" y="14383"/>
                  <a:pt x="19979" y="14383"/>
                </a:cubicBezTo>
                <a:cubicBezTo>
                  <a:pt x="19995" y="14383"/>
                  <a:pt x="20010" y="14383"/>
                  <a:pt x="20026" y="14383"/>
                </a:cubicBezTo>
                <a:cubicBezTo>
                  <a:pt x="20039" y="14421"/>
                  <a:pt x="20095" y="14410"/>
                  <a:pt x="20145" y="14430"/>
                </a:cubicBezTo>
                <a:cubicBezTo>
                  <a:pt x="20186" y="14446"/>
                  <a:pt x="20225" y="14474"/>
                  <a:pt x="20264" y="14478"/>
                </a:cubicBezTo>
                <a:cubicBezTo>
                  <a:pt x="20272" y="14478"/>
                  <a:pt x="20280" y="14478"/>
                  <a:pt x="20288" y="14478"/>
                </a:cubicBezTo>
              </a:path>
              <a:path w="2620" h="3930">
                <a:moveTo>
                  <a:pt x="20360" y="14288"/>
                </a:moveTo>
                <a:cubicBezTo>
                  <a:pt x="20114" y="14288"/>
                  <a:pt x="19868" y="14288"/>
                  <a:pt x="19622" y="14288"/>
                </a:cubicBezTo>
                <a:cubicBezTo>
                  <a:pt x="19634" y="14323"/>
                  <a:pt x="19651" y="14311"/>
                  <a:pt x="19693" y="14311"/>
                </a:cubicBezTo>
                <a:cubicBezTo>
                  <a:pt x="19717" y="14311"/>
                  <a:pt x="19740" y="14311"/>
                  <a:pt x="19764" y="14311"/>
                </a:cubicBezTo>
                <a:cubicBezTo>
                  <a:pt x="19764" y="14349"/>
                  <a:pt x="19749" y="14378"/>
                  <a:pt x="19788" y="14383"/>
                </a:cubicBezTo>
                <a:cubicBezTo>
                  <a:pt x="19826" y="14388"/>
                  <a:pt x="19899" y="14406"/>
                  <a:pt x="19931" y="14430"/>
                </a:cubicBezTo>
                <a:cubicBezTo>
                  <a:pt x="19958" y="14450"/>
                  <a:pt x="20013" y="14496"/>
                  <a:pt x="20026" y="14502"/>
                </a:cubicBezTo>
                <a:cubicBezTo>
                  <a:pt x="20068" y="14523"/>
                  <a:pt x="20115" y="14488"/>
                  <a:pt x="20145" y="14478"/>
                </a:cubicBezTo>
                <a:cubicBezTo>
                  <a:pt x="20186" y="14464"/>
                  <a:pt x="20201" y="14448"/>
                  <a:pt x="20241" y="14430"/>
                </a:cubicBezTo>
                <a:cubicBezTo>
                  <a:pt x="20271" y="14416"/>
                  <a:pt x="20272" y="14406"/>
                  <a:pt x="20312" y="14383"/>
                </a:cubicBezTo>
                <a:cubicBezTo>
                  <a:pt x="20331" y="14372"/>
                  <a:pt x="20422" y="14349"/>
                  <a:pt x="20431" y="14335"/>
                </a:cubicBezTo>
                <a:cubicBezTo>
                  <a:pt x="20448" y="14308"/>
                  <a:pt x="20471" y="14287"/>
                  <a:pt x="20479" y="14264"/>
                </a:cubicBezTo>
                <a:cubicBezTo>
                  <a:pt x="20288" y="14264"/>
                  <a:pt x="20098" y="14264"/>
                  <a:pt x="19907" y="14264"/>
                </a:cubicBezTo>
                <a:cubicBezTo>
                  <a:pt x="19843" y="14264"/>
                  <a:pt x="19944" y="14264"/>
                  <a:pt x="19955" y="14264"/>
                </a:cubicBezTo>
                <a:cubicBezTo>
                  <a:pt x="19979" y="14264"/>
                  <a:pt x="20002" y="14264"/>
                  <a:pt x="20026" y="14264"/>
                </a:cubicBezTo>
                <a:cubicBezTo>
                  <a:pt x="20026" y="14306"/>
                  <a:pt x="20008" y="14378"/>
                  <a:pt x="20050" y="14383"/>
                </a:cubicBezTo>
                <a:cubicBezTo>
                  <a:pt x="20111" y="14391"/>
                  <a:pt x="20179" y="14383"/>
                  <a:pt x="20241" y="14383"/>
                </a:cubicBezTo>
                <a:cubicBezTo>
                  <a:pt x="20280" y="14383"/>
                  <a:pt x="20224" y="14362"/>
                  <a:pt x="20217" y="14359"/>
                </a:cubicBezTo>
                <a:cubicBezTo>
                  <a:pt x="20195" y="14348"/>
                  <a:pt x="20136" y="14357"/>
                  <a:pt x="20122" y="14335"/>
                </a:cubicBezTo>
                <a:cubicBezTo>
                  <a:pt x="20110" y="14316"/>
                  <a:pt x="20061" y="14304"/>
                  <a:pt x="20050" y="14288"/>
                </a:cubicBezTo>
                <a:cubicBezTo>
                  <a:pt x="20050" y="14280"/>
                  <a:pt x="20050" y="14272"/>
                  <a:pt x="20050" y="14264"/>
                </a:cubicBezTo>
              </a:path>
              <a:path w="2620" h="3930">
                <a:moveTo>
                  <a:pt x="18621" y="11144"/>
                </a:moveTo>
                <a:cubicBezTo>
                  <a:pt x="18621" y="11168"/>
                  <a:pt x="18621" y="11176"/>
                  <a:pt x="18621" y="11192"/>
                </a:cubicBezTo>
                <a:cubicBezTo>
                  <a:pt x="18675" y="11192"/>
                  <a:pt x="18693" y="11203"/>
                  <a:pt x="18717" y="11216"/>
                </a:cubicBezTo>
                <a:cubicBezTo>
                  <a:pt x="18749" y="11232"/>
                  <a:pt x="18740" y="11242"/>
                  <a:pt x="18740" y="11287"/>
                </a:cubicBezTo>
                <a:cubicBezTo>
                  <a:pt x="18740" y="11311"/>
                  <a:pt x="18740" y="11335"/>
                  <a:pt x="18740" y="11359"/>
                </a:cubicBezTo>
                <a:cubicBezTo>
                  <a:pt x="18740" y="11311"/>
                  <a:pt x="18740" y="11264"/>
                  <a:pt x="18740" y="11216"/>
                </a:cubicBezTo>
                <a:cubicBezTo>
                  <a:pt x="18705" y="11228"/>
                  <a:pt x="18717" y="11245"/>
                  <a:pt x="18717" y="11287"/>
                </a:cubicBezTo>
                <a:cubicBezTo>
                  <a:pt x="18717" y="11311"/>
                  <a:pt x="18717" y="11335"/>
                  <a:pt x="18717" y="11359"/>
                </a:cubicBezTo>
              </a:path>
              <a:path w="2620" h="3930">
                <a:moveTo>
                  <a:pt x="20169" y="11001"/>
                </a:moveTo>
                <a:cubicBezTo>
                  <a:pt x="20169" y="11057"/>
                  <a:pt x="20169" y="11112"/>
                  <a:pt x="20169" y="11168"/>
                </a:cubicBezTo>
                <a:cubicBezTo>
                  <a:pt x="20169" y="11119"/>
                  <a:pt x="20158" y="11112"/>
                  <a:pt x="20145" y="11073"/>
                </a:cubicBezTo>
                <a:cubicBezTo>
                  <a:pt x="20133" y="11036"/>
                  <a:pt x="20133" y="10989"/>
                  <a:pt x="20122" y="10954"/>
                </a:cubicBezTo>
                <a:cubicBezTo>
                  <a:pt x="20113" y="10925"/>
                  <a:pt x="20101" y="10887"/>
                  <a:pt x="20098" y="10859"/>
                </a:cubicBezTo>
                <a:cubicBezTo>
                  <a:pt x="20093" y="10817"/>
                  <a:pt x="20111" y="10823"/>
                  <a:pt x="20074" y="10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10"/>
          <p:cNvSpPr/>
          <p:nvPr/>
        </p:nvSpPr>
        <p:spPr>
          <a:xfrm>
            <a:off x="3386160" y="4149720"/>
            <a:ext cx="155520" cy="239760"/>
          </a:xfrm>
          <a:custGeom>
            <a:avLst/>
            <a:gdLst/>
            <a:ahLst/>
            <a:rect l="l" t="t" r="r" b="b"/>
            <a:pathLst>
              <a:path w="430" h="668">
                <a:moveTo>
                  <a:pt x="9620" y="11525"/>
                </a:moveTo>
                <a:cubicBezTo>
                  <a:pt x="9559" y="11525"/>
                  <a:pt x="9527" y="11532"/>
                  <a:pt x="9477" y="11549"/>
                </a:cubicBezTo>
                <a:cubicBezTo>
                  <a:pt x="9436" y="11563"/>
                  <a:pt x="9413" y="11537"/>
                  <a:pt x="9406" y="11597"/>
                </a:cubicBezTo>
                <a:cubicBezTo>
                  <a:pt x="9397" y="11678"/>
                  <a:pt x="9413" y="11768"/>
                  <a:pt x="9430" y="11835"/>
                </a:cubicBezTo>
                <a:cubicBezTo>
                  <a:pt x="9447" y="11903"/>
                  <a:pt x="9438" y="11981"/>
                  <a:pt x="9454" y="12049"/>
                </a:cubicBezTo>
                <a:cubicBezTo>
                  <a:pt x="9464" y="12091"/>
                  <a:pt x="9473" y="12090"/>
                  <a:pt x="9477" y="12121"/>
                </a:cubicBezTo>
                <a:cubicBezTo>
                  <a:pt x="9482" y="12158"/>
                  <a:pt x="9515" y="12147"/>
                  <a:pt x="9525" y="12168"/>
                </a:cubicBezTo>
                <a:cubicBezTo>
                  <a:pt x="9542" y="12201"/>
                  <a:pt x="9550" y="12192"/>
                  <a:pt x="9596" y="12192"/>
                </a:cubicBezTo>
                <a:cubicBezTo>
                  <a:pt x="9676" y="12192"/>
                  <a:pt x="9755" y="12192"/>
                  <a:pt x="9835" y="12192"/>
                </a:cubicBezTo>
                <a:cubicBezTo>
                  <a:pt x="9835" y="12085"/>
                  <a:pt x="9877" y="11766"/>
                  <a:pt x="9811" y="11716"/>
                </a:cubicBezTo>
                <a:cubicBezTo>
                  <a:pt x="9790" y="11700"/>
                  <a:pt x="9744" y="11677"/>
                  <a:pt x="9739" y="11668"/>
                </a:cubicBezTo>
                <a:cubicBezTo>
                  <a:pt x="9724" y="11638"/>
                  <a:pt x="9726" y="11632"/>
                  <a:pt x="9692" y="11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11"/>
          <p:cNvSpPr/>
          <p:nvPr/>
        </p:nvSpPr>
        <p:spPr>
          <a:xfrm>
            <a:off x="3875040" y="4192560"/>
            <a:ext cx="171360" cy="333360"/>
          </a:xfrm>
          <a:custGeom>
            <a:avLst/>
            <a:gdLst/>
            <a:ahLst/>
            <a:rect l="l" t="t" r="r" b="b"/>
            <a:pathLst>
              <a:path w="478" h="930">
                <a:moveTo>
                  <a:pt x="10954" y="11644"/>
                </a:moveTo>
                <a:cubicBezTo>
                  <a:pt x="10904" y="11644"/>
                  <a:pt x="10903" y="11657"/>
                  <a:pt x="10882" y="11668"/>
                </a:cubicBezTo>
                <a:cubicBezTo>
                  <a:pt x="10853" y="11683"/>
                  <a:pt x="10859" y="11728"/>
                  <a:pt x="10835" y="11740"/>
                </a:cubicBezTo>
                <a:cubicBezTo>
                  <a:pt x="10808" y="11753"/>
                  <a:pt x="10808" y="11797"/>
                  <a:pt x="10787" y="11811"/>
                </a:cubicBezTo>
                <a:cubicBezTo>
                  <a:pt x="10757" y="11831"/>
                  <a:pt x="10763" y="11833"/>
                  <a:pt x="10763" y="11882"/>
                </a:cubicBezTo>
                <a:cubicBezTo>
                  <a:pt x="10763" y="12022"/>
                  <a:pt x="10748" y="12208"/>
                  <a:pt x="10787" y="12311"/>
                </a:cubicBezTo>
                <a:cubicBezTo>
                  <a:pt x="10804" y="12355"/>
                  <a:pt x="10801" y="12431"/>
                  <a:pt x="10811" y="12454"/>
                </a:cubicBezTo>
                <a:cubicBezTo>
                  <a:pt x="10828" y="12493"/>
                  <a:pt x="10843" y="12501"/>
                  <a:pt x="10859" y="12525"/>
                </a:cubicBezTo>
                <a:cubicBezTo>
                  <a:pt x="10875" y="12549"/>
                  <a:pt x="10886" y="12568"/>
                  <a:pt x="10930" y="12573"/>
                </a:cubicBezTo>
                <a:cubicBezTo>
                  <a:pt x="10964" y="12577"/>
                  <a:pt x="11031" y="12585"/>
                  <a:pt x="11049" y="12549"/>
                </a:cubicBezTo>
                <a:cubicBezTo>
                  <a:pt x="11061" y="12525"/>
                  <a:pt x="11090" y="12517"/>
                  <a:pt x="11097" y="12502"/>
                </a:cubicBezTo>
                <a:cubicBezTo>
                  <a:pt x="11118" y="12460"/>
                  <a:pt x="11139" y="12427"/>
                  <a:pt x="11168" y="12406"/>
                </a:cubicBezTo>
                <a:cubicBezTo>
                  <a:pt x="11201" y="12382"/>
                  <a:pt x="11200" y="12357"/>
                  <a:pt x="11216" y="12335"/>
                </a:cubicBezTo>
                <a:cubicBezTo>
                  <a:pt x="11243" y="12299"/>
                  <a:pt x="11240" y="12286"/>
                  <a:pt x="11240" y="12240"/>
                </a:cubicBezTo>
                <a:cubicBezTo>
                  <a:pt x="11240" y="12136"/>
                  <a:pt x="11250" y="11997"/>
                  <a:pt x="11216" y="11930"/>
                </a:cubicBezTo>
                <a:cubicBezTo>
                  <a:pt x="11202" y="11903"/>
                  <a:pt x="11216" y="11870"/>
                  <a:pt x="11192" y="11859"/>
                </a:cubicBezTo>
                <a:cubicBezTo>
                  <a:pt x="11164" y="11845"/>
                  <a:pt x="11166" y="11802"/>
                  <a:pt x="11144" y="11787"/>
                </a:cubicBezTo>
                <a:cubicBezTo>
                  <a:pt x="11121" y="11772"/>
                  <a:pt x="11101" y="11774"/>
                  <a:pt x="11097" y="11740"/>
                </a:cubicBezTo>
                <a:cubicBezTo>
                  <a:pt x="11093" y="11708"/>
                  <a:pt x="11098" y="11688"/>
                  <a:pt x="11073" y="11668"/>
                </a:cubicBezTo>
                <a:cubicBezTo>
                  <a:pt x="11049" y="11668"/>
                  <a:pt x="11041" y="11668"/>
                  <a:pt x="11049" y="11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12"/>
          <p:cNvSpPr/>
          <p:nvPr/>
        </p:nvSpPr>
        <p:spPr>
          <a:xfrm>
            <a:off x="3608280" y="4508640"/>
            <a:ext cx="69840" cy="206280"/>
          </a:xfrm>
          <a:custGeom>
            <a:avLst/>
            <a:gdLst/>
            <a:ahLst/>
            <a:rect l="l" t="t" r="r" b="b"/>
            <a:pathLst>
              <a:path w="192" h="573">
                <a:moveTo>
                  <a:pt x="10192" y="12525"/>
                </a:moveTo>
                <a:cubicBezTo>
                  <a:pt x="10192" y="12549"/>
                  <a:pt x="10192" y="12557"/>
                  <a:pt x="10192" y="12573"/>
                </a:cubicBezTo>
                <a:cubicBezTo>
                  <a:pt x="10156" y="12585"/>
                  <a:pt x="10168" y="12601"/>
                  <a:pt x="10168" y="12644"/>
                </a:cubicBezTo>
                <a:cubicBezTo>
                  <a:pt x="10168" y="12668"/>
                  <a:pt x="10168" y="12676"/>
                  <a:pt x="10168" y="12692"/>
                </a:cubicBezTo>
                <a:cubicBezTo>
                  <a:pt x="10150" y="12704"/>
                  <a:pt x="10131" y="12754"/>
                  <a:pt x="10120" y="12787"/>
                </a:cubicBezTo>
                <a:cubicBezTo>
                  <a:pt x="10102" y="12841"/>
                  <a:pt x="10068" y="12903"/>
                  <a:pt x="10049" y="12954"/>
                </a:cubicBezTo>
                <a:cubicBezTo>
                  <a:pt x="10039" y="12981"/>
                  <a:pt x="10049" y="13046"/>
                  <a:pt x="10049" y="13073"/>
                </a:cubicBezTo>
                <a:cubicBezTo>
                  <a:pt x="9996" y="13091"/>
                  <a:pt x="10037" y="13097"/>
                  <a:pt x="10073" y="13097"/>
                </a:cubicBezTo>
                <a:cubicBezTo>
                  <a:pt x="10121" y="13097"/>
                  <a:pt x="10168" y="13097"/>
                  <a:pt x="10216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Ink 13"/>
          <p:cNvSpPr/>
          <p:nvPr/>
        </p:nvSpPr>
        <p:spPr>
          <a:xfrm>
            <a:off x="3514680" y="4997520"/>
            <a:ext cx="325440" cy="112680"/>
          </a:xfrm>
          <a:custGeom>
            <a:avLst/>
            <a:gdLst/>
            <a:ahLst/>
            <a:rect l="l" t="t" r="r" b="b"/>
            <a:pathLst>
              <a:path w="906" h="310">
                <a:moveTo>
                  <a:pt x="9763" y="13883"/>
                </a:moveTo>
                <a:cubicBezTo>
                  <a:pt x="9818" y="13883"/>
                  <a:pt x="9856" y="13878"/>
                  <a:pt x="9906" y="13907"/>
                </a:cubicBezTo>
                <a:cubicBezTo>
                  <a:pt x="9962" y="13940"/>
                  <a:pt x="10025" y="13984"/>
                  <a:pt x="10073" y="14026"/>
                </a:cubicBezTo>
                <a:cubicBezTo>
                  <a:pt x="10095" y="14045"/>
                  <a:pt x="10211" y="14111"/>
                  <a:pt x="10239" y="14121"/>
                </a:cubicBezTo>
                <a:cubicBezTo>
                  <a:pt x="10276" y="14134"/>
                  <a:pt x="10345" y="14165"/>
                  <a:pt x="10382" y="14168"/>
                </a:cubicBezTo>
                <a:cubicBezTo>
                  <a:pt x="10451" y="14173"/>
                  <a:pt x="10471" y="14192"/>
                  <a:pt x="10549" y="14192"/>
                </a:cubicBezTo>
                <a:cubicBezTo>
                  <a:pt x="10589" y="14192"/>
                  <a:pt x="10628" y="14192"/>
                  <a:pt x="10668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14"/>
          <p:cNvSpPr/>
          <p:nvPr/>
        </p:nvSpPr>
        <p:spPr>
          <a:xfrm>
            <a:off x="3960720" y="43718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001" y="12144"/>
                </a:moveTo>
                <a:lnTo>
                  <a:pt x="11001" y="1214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15"/>
          <p:cNvSpPr/>
          <p:nvPr/>
        </p:nvSpPr>
        <p:spPr>
          <a:xfrm>
            <a:off x="3479760" y="4286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668" y="11906"/>
                </a:moveTo>
                <a:lnTo>
                  <a:pt x="9668" y="119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16"/>
          <p:cNvSpPr/>
          <p:nvPr/>
        </p:nvSpPr>
        <p:spPr>
          <a:xfrm>
            <a:off x="3875040" y="5032440"/>
            <a:ext cx="25560" cy="42840"/>
          </a:xfrm>
          <a:custGeom>
            <a:avLst/>
            <a:gdLst/>
            <a:ahLst/>
            <a:rect l="l" t="t" r="r" b="b"/>
            <a:pathLst>
              <a:path w="73" h="120">
                <a:moveTo>
                  <a:pt x="10763" y="14097"/>
                </a:moveTo>
                <a:cubicBezTo>
                  <a:pt x="10763" y="14089"/>
                  <a:pt x="10763" y="14081"/>
                  <a:pt x="10763" y="14073"/>
                </a:cubicBezTo>
                <a:cubicBezTo>
                  <a:pt x="10794" y="14063"/>
                  <a:pt x="10801" y="14041"/>
                  <a:pt x="10811" y="14002"/>
                </a:cubicBezTo>
                <a:cubicBezTo>
                  <a:pt x="10835" y="14002"/>
                  <a:pt x="10843" y="14002"/>
                  <a:pt x="10835" y="13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17"/>
          <p:cNvSpPr/>
          <p:nvPr/>
        </p:nvSpPr>
        <p:spPr>
          <a:xfrm>
            <a:off x="3446640" y="4294080"/>
            <a:ext cx="52200" cy="27000"/>
          </a:xfrm>
          <a:custGeom>
            <a:avLst/>
            <a:gdLst/>
            <a:ahLst/>
            <a:rect l="l" t="t" r="r" b="b"/>
            <a:pathLst>
              <a:path w="144" h="73">
                <a:moveTo>
                  <a:pt x="9716" y="11978"/>
                </a:moveTo>
                <a:cubicBezTo>
                  <a:pt x="9716" y="11954"/>
                  <a:pt x="9716" y="11946"/>
                  <a:pt x="9716" y="11930"/>
                </a:cubicBezTo>
                <a:cubicBezTo>
                  <a:pt x="9693" y="11938"/>
                  <a:pt x="9671" y="11939"/>
                  <a:pt x="9644" y="11954"/>
                </a:cubicBezTo>
                <a:cubicBezTo>
                  <a:pt x="9607" y="11974"/>
                  <a:pt x="9617" y="11978"/>
                  <a:pt x="9573" y="11978"/>
                </a:cubicBezTo>
                <a:cubicBezTo>
                  <a:pt x="9585" y="12014"/>
                  <a:pt x="9601" y="12002"/>
                  <a:pt x="9644" y="12002"/>
                </a:cubicBezTo>
                <a:cubicBezTo>
                  <a:pt x="9668" y="12002"/>
                  <a:pt x="9676" y="12002"/>
                  <a:pt x="9692" y="12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18"/>
          <p:cNvSpPr/>
          <p:nvPr/>
        </p:nvSpPr>
        <p:spPr>
          <a:xfrm>
            <a:off x="3943440" y="4363920"/>
            <a:ext cx="34920" cy="42840"/>
          </a:xfrm>
          <a:custGeom>
            <a:avLst/>
            <a:gdLst/>
            <a:ahLst/>
            <a:rect l="l" t="t" r="r" b="b"/>
            <a:pathLst>
              <a:path w="96" h="120">
                <a:moveTo>
                  <a:pt x="10954" y="12240"/>
                </a:moveTo>
                <a:cubicBezTo>
                  <a:pt x="10954" y="12197"/>
                  <a:pt x="10960" y="12193"/>
                  <a:pt x="10978" y="12168"/>
                </a:cubicBezTo>
                <a:cubicBezTo>
                  <a:pt x="11009" y="12125"/>
                  <a:pt x="11001" y="12110"/>
                  <a:pt x="11001" y="12168"/>
                </a:cubicBezTo>
                <a:cubicBezTo>
                  <a:pt x="11001" y="12186"/>
                  <a:pt x="11015" y="12258"/>
                  <a:pt x="11049" y="12216"/>
                </a:cubicBezTo>
                <a:cubicBezTo>
                  <a:pt x="11049" y="12208"/>
                  <a:pt x="11049" y="12200"/>
                  <a:pt x="11049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lived in Shanghi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，他住在上海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1" name="Content Placeholder 3" descr="shanghai.jpg"/>
          <p:cNvPicPr/>
          <p:nvPr/>
        </p:nvPicPr>
        <p:blipFill>
          <a:blip r:embed="rId1"/>
          <a:stretch/>
        </p:blipFill>
        <p:spPr>
          <a:xfrm>
            <a:off x="2590920" y="2514600"/>
            <a:ext cx="4100400" cy="3279600"/>
          </a:xfrm>
          <a:prstGeom prst="rect">
            <a:avLst/>
          </a:prstGeom>
          <a:ln w="0">
            <a:noFill/>
          </a:ln>
        </p:spPr>
      </p:pic>
      <p:pic>
        <p:nvPicPr>
          <p:cNvPr id="132" name="Recorded Sound" descr=""/>
          <p:cNvPicPr/>
          <p:nvPr/>
        </p:nvPicPr>
        <p:blipFill>
          <a:blip r:embed="rId2"/>
          <a:stretch/>
        </p:blipFill>
        <p:spPr>
          <a:xfrm>
            <a:off x="-1066680" y="3048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Ink 4"/>
          <p:cNvSpPr/>
          <p:nvPr/>
        </p:nvSpPr>
        <p:spPr>
          <a:xfrm>
            <a:off x="3232080" y="2768760"/>
            <a:ext cx="565200" cy="677880"/>
          </a:xfrm>
          <a:custGeom>
            <a:avLst/>
            <a:gdLst/>
            <a:ahLst/>
            <a:rect l="l" t="t" r="r" b="b"/>
            <a:pathLst>
              <a:path w="1573" h="1883">
                <a:moveTo>
                  <a:pt x="8977" y="7691"/>
                </a:moveTo>
                <a:cubicBezTo>
                  <a:pt x="8985" y="7691"/>
                  <a:pt x="8993" y="7691"/>
                  <a:pt x="9001" y="7691"/>
                </a:cubicBezTo>
                <a:cubicBezTo>
                  <a:pt x="9016" y="7711"/>
                  <a:pt x="9010" y="7719"/>
                  <a:pt x="9025" y="7739"/>
                </a:cubicBezTo>
                <a:cubicBezTo>
                  <a:pt x="9058" y="7764"/>
                  <a:pt x="9086" y="7805"/>
                  <a:pt x="9120" y="7834"/>
                </a:cubicBezTo>
                <a:cubicBezTo>
                  <a:pt x="9168" y="7875"/>
                  <a:pt x="9219" y="7902"/>
                  <a:pt x="9263" y="7953"/>
                </a:cubicBezTo>
                <a:cubicBezTo>
                  <a:pt x="9326" y="8025"/>
                  <a:pt x="9349" y="8055"/>
                  <a:pt x="9406" y="8120"/>
                </a:cubicBezTo>
                <a:cubicBezTo>
                  <a:pt x="9440" y="8159"/>
                  <a:pt x="9497" y="8238"/>
                  <a:pt x="9525" y="8263"/>
                </a:cubicBezTo>
                <a:cubicBezTo>
                  <a:pt x="9566" y="8299"/>
                  <a:pt x="9579" y="8317"/>
                  <a:pt x="9620" y="8358"/>
                </a:cubicBezTo>
                <a:cubicBezTo>
                  <a:pt x="9669" y="8407"/>
                  <a:pt x="9664" y="8428"/>
                  <a:pt x="9692" y="8477"/>
                </a:cubicBezTo>
                <a:cubicBezTo>
                  <a:pt x="9722" y="8497"/>
                  <a:pt x="9719" y="8494"/>
                  <a:pt x="9739" y="8525"/>
                </a:cubicBezTo>
                <a:cubicBezTo>
                  <a:pt x="9767" y="8545"/>
                  <a:pt x="9813" y="8575"/>
                  <a:pt x="9835" y="8596"/>
                </a:cubicBezTo>
                <a:cubicBezTo>
                  <a:pt x="9861" y="8620"/>
                  <a:pt x="9867" y="8647"/>
                  <a:pt x="9882" y="8668"/>
                </a:cubicBezTo>
                <a:cubicBezTo>
                  <a:pt x="9902" y="8684"/>
                  <a:pt x="9933" y="8719"/>
                  <a:pt x="9954" y="8739"/>
                </a:cubicBezTo>
                <a:cubicBezTo>
                  <a:pt x="9971" y="8763"/>
                  <a:pt x="9970" y="8740"/>
                  <a:pt x="9977" y="8787"/>
                </a:cubicBezTo>
                <a:cubicBezTo>
                  <a:pt x="9997" y="8802"/>
                  <a:pt x="10005" y="8796"/>
                  <a:pt x="10025" y="8811"/>
                </a:cubicBezTo>
                <a:cubicBezTo>
                  <a:pt x="10041" y="8826"/>
                  <a:pt x="10057" y="8843"/>
                  <a:pt x="10073" y="8858"/>
                </a:cubicBezTo>
              </a:path>
              <a:path w="1573" h="1883">
                <a:moveTo>
                  <a:pt x="10287" y="8382"/>
                </a:moveTo>
                <a:cubicBezTo>
                  <a:pt x="10287" y="8521"/>
                  <a:pt x="10252" y="8733"/>
                  <a:pt x="10311" y="8858"/>
                </a:cubicBezTo>
                <a:cubicBezTo>
                  <a:pt x="10335" y="8909"/>
                  <a:pt x="10357" y="8966"/>
                  <a:pt x="10382" y="9025"/>
                </a:cubicBezTo>
                <a:cubicBezTo>
                  <a:pt x="10403" y="9074"/>
                  <a:pt x="10464" y="9163"/>
                  <a:pt x="10478" y="9215"/>
                </a:cubicBezTo>
                <a:cubicBezTo>
                  <a:pt x="10491" y="9262"/>
                  <a:pt x="10517" y="9314"/>
                  <a:pt x="10525" y="9358"/>
                </a:cubicBezTo>
                <a:cubicBezTo>
                  <a:pt x="10535" y="9415"/>
                  <a:pt x="10546" y="9468"/>
                  <a:pt x="10549" y="9525"/>
                </a:cubicBezTo>
                <a:cubicBezTo>
                  <a:pt x="10549" y="9549"/>
                  <a:pt x="10549" y="9557"/>
                  <a:pt x="10549" y="9573"/>
                </a:cubicBezTo>
                <a:cubicBezTo>
                  <a:pt x="10488" y="9573"/>
                  <a:pt x="10430" y="9556"/>
                  <a:pt x="10382" y="9549"/>
                </a:cubicBezTo>
                <a:cubicBezTo>
                  <a:pt x="10251" y="9530"/>
                  <a:pt x="10105" y="9519"/>
                  <a:pt x="9977" y="9477"/>
                </a:cubicBezTo>
                <a:cubicBezTo>
                  <a:pt x="9935" y="9463"/>
                  <a:pt x="9869" y="9447"/>
                  <a:pt x="9835" y="9430"/>
                </a:cubicBezTo>
                <a:cubicBezTo>
                  <a:pt x="9811" y="9418"/>
                  <a:pt x="9777" y="9390"/>
                  <a:pt x="9739" y="9382"/>
                </a:cubicBezTo>
                <a:cubicBezTo>
                  <a:pt x="9716" y="9382"/>
                  <a:pt x="9708" y="9382"/>
                  <a:pt x="9692" y="9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lived on a mountian 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他住在山上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5" name="Content Placeholder 3" descr="MT. fuji.jpg"/>
          <p:cNvPicPr/>
          <p:nvPr/>
        </p:nvPicPr>
        <p:blipFill>
          <a:blip r:embed="rId1"/>
          <a:stretch/>
        </p:blipFill>
        <p:spPr>
          <a:xfrm>
            <a:off x="2133720" y="2514600"/>
            <a:ext cx="4647960" cy="3192480"/>
          </a:xfrm>
          <a:prstGeom prst="rect">
            <a:avLst/>
          </a:prstGeom>
          <a:ln w="0">
            <a:noFill/>
          </a:ln>
        </p:spPr>
      </p:pic>
      <p:pic>
        <p:nvPicPr>
          <p:cNvPr id="136" name="Recorded Sound" descr=""/>
          <p:cNvPicPr/>
          <p:nvPr/>
        </p:nvPicPr>
        <p:blipFill>
          <a:blip r:embed="rId2"/>
          <a:stretch/>
        </p:blipFill>
        <p:spPr>
          <a:xfrm>
            <a:off x="-6858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Ink 4"/>
          <p:cNvSpPr/>
          <p:nvPr/>
        </p:nvSpPr>
        <p:spPr>
          <a:xfrm>
            <a:off x="3214800" y="4037040"/>
            <a:ext cx="506160" cy="352440"/>
          </a:xfrm>
          <a:custGeom>
            <a:avLst/>
            <a:gdLst/>
            <a:ahLst/>
            <a:rect l="l" t="t" r="r" b="b"/>
            <a:pathLst>
              <a:path w="1406" h="977">
                <a:moveTo>
                  <a:pt x="9620" y="11859"/>
                </a:moveTo>
                <a:lnTo>
                  <a:pt x="9620" y="11859"/>
                </a:lnTo>
              </a:path>
              <a:path w="1406" h="977">
                <a:moveTo>
                  <a:pt x="9644" y="11906"/>
                </a:moveTo>
                <a:cubicBezTo>
                  <a:pt x="9739" y="11906"/>
                  <a:pt x="9835" y="11906"/>
                  <a:pt x="9930" y="11906"/>
                </a:cubicBezTo>
                <a:cubicBezTo>
                  <a:pt x="9876" y="11906"/>
                  <a:pt x="9897" y="11887"/>
                  <a:pt x="9858" y="11882"/>
                </a:cubicBezTo>
                <a:cubicBezTo>
                  <a:pt x="9759" y="11869"/>
                  <a:pt x="9649" y="11882"/>
                  <a:pt x="9549" y="11882"/>
                </a:cubicBezTo>
              </a:path>
              <a:path w="1406" h="977">
                <a:moveTo>
                  <a:pt x="10263" y="12144"/>
                </a:moveTo>
                <a:cubicBezTo>
                  <a:pt x="10239" y="12144"/>
                  <a:pt x="10216" y="12144"/>
                  <a:pt x="10192" y="12144"/>
                </a:cubicBezTo>
                <a:cubicBezTo>
                  <a:pt x="10192" y="12194"/>
                  <a:pt x="10189" y="12192"/>
                  <a:pt x="10239" y="12192"/>
                </a:cubicBezTo>
                <a:cubicBezTo>
                  <a:pt x="10271" y="12192"/>
                  <a:pt x="10303" y="12192"/>
                  <a:pt x="10335" y="12192"/>
                </a:cubicBezTo>
              </a:path>
              <a:path w="1406" h="977">
                <a:moveTo>
                  <a:pt x="9930" y="11906"/>
                </a:moveTo>
                <a:cubicBezTo>
                  <a:pt x="9930" y="11825"/>
                  <a:pt x="9929" y="11760"/>
                  <a:pt x="9906" y="11692"/>
                </a:cubicBezTo>
                <a:cubicBezTo>
                  <a:pt x="9895" y="11658"/>
                  <a:pt x="9869" y="11630"/>
                  <a:pt x="9858" y="11597"/>
                </a:cubicBezTo>
                <a:cubicBezTo>
                  <a:pt x="9858" y="11589"/>
                  <a:pt x="9858" y="11581"/>
                  <a:pt x="9858" y="11573"/>
                </a:cubicBezTo>
                <a:cubicBezTo>
                  <a:pt x="9823" y="11561"/>
                  <a:pt x="9835" y="11543"/>
                  <a:pt x="9835" y="11501"/>
                </a:cubicBezTo>
              </a:path>
              <a:path w="1406" h="977">
                <a:moveTo>
                  <a:pt x="9692" y="11692"/>
                </a:moveTo>
                <a:cubicBezTo>
                  <a:pt x="9642" y="11692"/>
                  <a:pt x="9613" y="11680"/>
                  <a:pt x="9573" y="11668"/>
                </a:cubicBezTo>
                <a:cubicBezTo>
                  <a:pt x="9547" y="11660"/>
                  <a:pt x="9505" y="11668"/>
                  <a:pt x="9477" y="11668"/>
                </a:cubicBezTo>
                <a:cubicBezTo>
                  <a:pt x="9465" y="11630"/>
                  <a:pt x="9466" y="11658"/>
                  <a:pt x="9454" y="11621"/>
                </a:cubicBezTo>
                <a:cubicBezTo>
                  <a:pt x="9415" y="11611"/>
                  <a:pt x="9416" y="11612"/>
                  <a:pt x="9406" y="11573"/>
                </a:cubicBezTo>
                <a:cubicBezTo>
                  <a:pt x="9368" y="11560"/>
                  <a:pt x="9396" y="11562"/>
                  <a:pt x="9358" y="11549"/>
                </a:cubicBezTo>
                <a:cubicBezTo>
                  <a:pt x="9347" y="11515"/>
                  <a:pt x="9352" y="11525"/>
                  <a:pt x="9311" y="11525"/>
                </a:cubicBezTo>
                <a:cubicBezTo>
                  <a:pt x="9298" y="11487"/>
                  <a:pt x="9300" y="11515"/>
                  <a:pt x="9287" y="11478"/>
                </a:cubicBezTo>
                <a:cubicBezTo>
                  <a:pt x="9248" y="11468"/>
                  <a:pt x="9249" y="11469"/>
                  <a:pt x="9239" y="11430"/>
                </a:cubicBezTo>
                <a:cubicBezTo>
                  <a:pt x="9198" y="11430"/>
                  <a:pt x="9203" y="11440"/>
                  <a:pt x="9192" y="11406"/>
                </a:cubicBezTo>
                <a:cubicBezTo>
                  <a:pt x="9156" y="11394"/>
                  <a:pt x="9172" y="11382"/>
                  <a:pt x="9120" y="11382"/>
                </a:cubicBezTo>
                <a:cubicBezTo>
                  <a:pt x="9109" y="11350"/>
                  <a:pt x="9084" y="11357"/>
                  <a:pt x="9073" y="11311"/>
                </a:cubicBezTo>
                <a:cubicBezTo>
                  <a:pt x="9032" y="11311"/>
                  <a:pt x="9036" y="11321"/>
                  <a:pt x="9025" y="11287"/>
                </a:cubicBezTo>
                <a:cubicBezTo>
                  <a:pt x="8983" y="11277"/>
                  <a:pt x="8962" y="11248"/>
                  <a:pt x="8930" y="112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so on the mountain lived a Tiger 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在山上也住着一只老虎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9" name="Content Placeholder 5" descr="tiger.jpg"/>
          <p:cNvPicPr/>
          <p:nvPr/>
        </p:nvPicPr>
        <p:blipFill>
          <a:blip r:embed="rId1"/>
          <a:stretch/>
        </p:blipFill>
        <p:spPr>
          <a:xfrm>
            <a:off x="2286000" y="2286000"/>
            <a:ext cx="4800600" cy="3484440"/>
          </a:xfrm>
          <a:prstGeom prst="rect">
            <a:avLst/>
          </a:prstGeom>
          <a:ln w="0">
            <a:noFill/>
          </a:ln>
        </p:spPr>
      </p:pic>
      <p:pic>
        <p:nvPicPr>
          <p:cNvPr id="140" name="Recorded Sound" descr=""/>
          <p:cNvPicPr/>
          <p:nvPr/>
        </p:nvPicPr>
        <p:blipFill>
          <a:blip r:embed="rId2"/>
          <a:stretch/>
        </p:blipFill>
        <p:spPr>
          <a:xfrm>
            <a:off x="-990720" y="320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Ink 4"/>
          <p:cNvSpPr/>
          <p:nvPr/>
        </p:nvSpPr>
        <p:spPr>
          <a:xfrm>
            <a:off x="3497400" y="3335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716" y="9263"/>
                </a:moveTo>
                <a:lnTo>
                  <a:pt x="9716" y="926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5"/>
          <p:cNvSpPr/>
          <p:nvPr/>
        </p:nvSpPr>
        <p:spPr>
          <a:xfrm>
            <a:off x="4114800" y="3360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430" y="9335"/>
                </a:moveTo>
                <a:lnTo>
                  <a:pt x="11430" y="93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is name was Maruchan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，他名字叫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marucha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Content Placeholder 5" descr="tiger.jpg"/>
          <p:cNvPicPr/>
          <p:nvPr/>
        </p:nvPicPr>
        <p:blipFill>
          <a:blip r:embed="rId1"/>
          <a:stretch/>
        </p:blipFill>
        <p:spPr>
          <a:xfrm>
            <a:off x="3881520" y="2819520"/>
            <a:ext cx="3805200" cy="2762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1371600" y="2209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ruc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Straight Arrow Connector 8"/>
          <p:cNvCxnSpPr/>
          <p:nvPr/>
        </p:nvCxnSpPr>
        <p:spPr>
          <a:xfrm>
            <a:off x="1904760" y="2666880"/>
            <a:ext cx="1067400" cy="4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47" name="Recorded Sound" descr=""/>
          <p:cNvPicPr/>
          <p:nvPr/>
        </p:nvPicPr>
        <p:blipFill>
          <a:blip r:embed="rId2"/>
          <a:stretch/>
        </p:blipFill>
        <p:spPr>
          <a:xfrm>
            <a:off x="-12193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aruchan was Bob’s Friend</a:t>
            </a: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maruchan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是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隶书"/>
              </a:rPr>
              <a:t>bob</a:t>
            </a:r>
            <a:r>
              <a:rPr b="0" lang="zh-CN" sz="5000" spc="-1" strike="noStrike">
                <a:solidFill>
                  <a:srgbClr val="dbf5f9"/>
                </a:solidFill>
                <a:latin typeface="Calibri"/>
                <a:ea typeface="隶书"/>
              </a:rPr>
              <a:t>的朋友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9" name="Content Placeholder 3" descr="friend.jpg"/>
          <p:cNvPicPr/>
          <p:nvPr/>
        </p:nvPicPr>
        <p:blipFill>
          <a:blip r:embed="rId1"/>
          <a:stretch/>
        </p:blipFill>
        <p:spPr>
          <a:xfrm>
            <a:off x="2895480" y="3276720"/>
            <a:ext cx="2192400" cy="1649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tiger.jpg"/>
          <p:cNvPicPr/>
          <p:nvPr/>
        </p:nvPicPr>
        <p:blipFill>
          <a:blip r:embed="rId2"/>
          <a:stretch/>
        </p:blipFill>
        <p:spPr>
          <a:xfrm>
            <a:off x="152280" y="2666880"/>
            <a:ext cx="3384720" cy="2457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rock.jpg"/>
          <p:cNvPicPr/>
          <p:nvPr/>
        </p:nvPicPr>
        <p:blipFill>
          <a:blip r:embed="rId3"/>
          <a:stretch/>
        </p:blipFill>
        <p:spPr>
          <a:xfrm>
            <a:off x="4343400" y="2895480"/>
            <a:ext cx="3905280" cy="2343240"/>
          </a:xfrm>
          <a:prstGeom prst="rect">
            <a:avLst/>
          </a:prstGeom>
          <a:ln w="0">
            <a:noFill/>
          </a:ln>
        </p:spPr>
      </p:pic>
      <p:pic>
        <p:nvPicPr>
          <p:cNvPr id="152" name="Recorded Sound" descr=""/>
          <p:cNvPicPr/>
          <p:nvPr/>
        </p:nvPicPr>
        <p:blipFill>
          <a:blip r:embed="rId4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5:32:24Z</dcterms:created>
  <dc:creator>itsuser</dc:creator>
  <dc:description/>
  <dc:language>en-US</dc:language>
  <cp:lastModifiedBy>itsuser</cp:lastModifiedBy>
  <dcterms:modified xsi:type="dcterms:W3CDTF">2009-04-16T16:28:08Z</dcterms:modified>
  <cp:revision>16</cp:revision>
  <dc:subject/>
  <dc:title>Slide 1</dc:title>
</cp:coreProperties>
</file>